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6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8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6.png" ContentType="image/png"/>
  <Override PartName="/ppt/media/image5.jpeg" ContentType="image/jpeg"/>
  <Override PartName="/ppt/media/image17.png" ContentType="image/png"/>
  <Override PartName="/ppt/media/image32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207E-DF76-4B62-B2FA-5F4A0AFF71D3}" type="datetime">
              <a:rPr b="0" lang="pt-B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F2C6-0526-41E3-A395-11189E29D0A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32000" y="523800"/>
            <a:ext cx="4197240" cy="3148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2480" y="3822840"/>
            <a:ext cx="50101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Development and Progression of Type 2 Diabe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s conceptual diagram shows a proposed paradigm on the development and progression of pathophysiology in type 2 diabetes.</a:t>
            </a:r>
            <a:r>
              <a:rPr b="0" lang="en-US" sz="9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horizontal axis in the figure shows the years before and after diagnosis of diabetes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sulin resistance begins years before diagnosis.1  Insulin resistance rises during disease development and continues to rise during impaired glucose tolerance (IGT). </a:t>
            </a: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Over time, insulin resistance remains stable during the progression of type 2 diabetes.</a:t>
            </a:r>
            <a:r>
              <a:rPr b="0" lang="it-IT" sz="9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The insulin secretion rate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increases to compensate for the decrease in insulin effectiveness due to insulin resistance. </a:t>
            </a:r>
            <a:r>
              <a:rPr b="0" lang="el-GR" sz="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-cell function can decrease even as insulin secretion increases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t the time of diagnosis of type 2 diabetes and 6 years afterwards about 50% and 73% of </a:t>
            </a:r>
            <a:r>
              <a:rPr b="0" lang="el-GR" sz="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-cell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function has been lost, respectively.</a:t>
            </a:r>
            <a:r>
              <a:rPr b="0" lang="en-US" sz="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Over time, </a:t>
            </a:r>
            <a:r>
              <a:rPr b="0" lang="el-GR" sz="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-cell compensatory function deteriorates and insulin secretion decreases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l-GR" sz="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cell function progressively fails.</a:t>
            </a:r>
            <a:r>
              <a:rPr b="0" lang="en-US" sz="900" spc="-1" strike="noStrike" baseline="30000">
                <a:solidFill>
                  <a:srgbClr val="000000"/>
                </a:solidFill>
                <a:latin typeface="Calibri"/>
              </a:rPr>
              <a:t>1,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itially, fasting glucose is maintained in near-normal ranges. The pancreatic </a:t>
            </a:r>
            <a:r>
              <a:rPr b="0" lang="el-GR" sz="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cells compensate by increasing insulin levels, leading to hyperinsulinemia. This compensation keeps glucose levels normalized for a time, but as </a:t>
            </a:r>
            <a:r>
              <a:rPr b="0" lang="el-GR" sz="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cells begin to fail, IGT develops with mild postprandial hyperglycemia. As the disease progresses, the </a:t>
            </a:r>
            <a:r>
              <a:rPr b="0" lang="el-GR" sz="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cells continue to fail, resulting in higher PPG levels. With continued loss of insulin secretory capacity, fasting glucose and hepatic glucose production increase.</a:t>
            </a:r>
            <a:r>
              <a:rPr b="0" lang="it-IT" sz="9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Once </a:t>
            </a:r>
            <a:r>
              <a:rPr b="0" lang="el-GR" sz="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cells cannot secrete sufficient insulin to maintain normal glycemia at the fasting or postprandial stage, type 2 diabetes (hyperglycemia) becomes evident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sulin resistance and </a:t>
            </a:r>
            <a:r>
              <a:rPr b="0" lang="el-GR" sz="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cell dysfunction are established well before </a:t>
            </a:r>
            <a:r>
              <a:rPr b="0" lang="it-IT" sz="900" spc="-1" strike="noStrike">
                <a:solidFill>
                  <a:srgbClr val="000000"/>
                </a:solidFill>
                <a:latin typeface="Calibri"/>
              </a:rPr>
              <a:t>type 2 diabetes is diagnosed.</a:t>
            </a:r>
            <a:r>
              <a:rPr b="0" lang="it-IT" sz="9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90360" y="8590320"/>
            <a:ext cx="6459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marL="108000" indent="-108000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>
              <a:buClr>
                <a:srgbClr val="000000"/>
              </a:buClr>
              <a:buFont typeface="Calibri"/>
              <a:buAutoNum type="arabicPeriod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mlo-Halsted BA, Edelman SV. The natural history of type 2 diabetes. Implications for clinical practice. 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m Care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 1999;26:771–789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>
              <a:buClr>
                <a:srgbClr val="000000"/>
              </a:buClr>
              <a:buFont typeface="Calibri"/>
              <a:buAutoNum type="arabicPeriod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Bell DSH. The case for combination therapy as first-line treatment for type 2 diabetic patients. 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Treat Endocrinol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. 2006;5:131–137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942840" y="4250880"/>
            <a:ext cx="5010120" cy="951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sp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Arial Unicode MS"/>
              </a:rPr>
              <a:t>Purpos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300"/>
              </a:spcAft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Arial Unicode MS"/>
              </a:rPr>
              <a:t>To address the common misconception that an increase in insulin secretion (hyperinsulinemia) connotes an improvement in </a:t>
            </a:r>
            <a:r>
              <a:rPr b="0" lang="el-GR" sz="900" spc="-1" strike="noStrike">
                <a:solidFill>
                  <a:srgbClr val="000000"/>
                </a:solidFill>
                <a:latin typeface="Calibri"/>
                <a:ea typeface="Arial Unicode MS"/>
              </a:rPr>
              <a:t>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Arial Unicode MS"/>
              </a:rPr>
              <a:t>-cell functio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Arial Unicode MS"/>
              </a:rPr>
              <a:t>Takeaway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Arial Unicode MS"/>
              </a:rPr>
              <a:t>Both insulin resistance and </a:t>
            </a:r>
            <a:r>
              <a:rPr b="0" lang="el-GR" sz="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Arial Unicode MS"/>
              </a:rPr>
              <a:t>-cell dysfunction start early–and well before diabetes is diagnosed–leading to rises in fasting plasma glucose (FPG) and postprandial glucose (PPG) level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ço Reservado para Número de Slid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9209-5C36-480E-A4EF-36A085FC16C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BF79-8553-4A0D-A939-EED30D2203D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18432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ço Reservado para Número de Slid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C909-FE8F-45CE-93DE-E0A20E9D4A7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nefropatia incipiente ou fase da microalbuminúria, em que a excreção de albumina urinária varia entre 20-199 µg/min ( 30-300 mg/24h); e a fase da nefropatia clínica ou fase da proteinúria em que a excreção  de albumina urinária é &gt; 199 µg/min (&gt; 300 mg/24h) ou proteinúria </a:t>
            </a:r>
            <a:r>
              <a:rPr b="0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&gt;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500 mg/24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7779-AB1D-4C7A-8CCB-BF830034B90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3609-748A-4CB9-A55D-B2F06160AF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A0B2-68C4-4906-B712-4F9AC59C9E5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9E22-C2E9-4045-92D8-A4D4F8E78B3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7351-56E8-4F63-B1E6-04F69B1F650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Espaço Reservado para Número de Slid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215A-E4B9-4B53-ADFF-D39BE3D484E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CE1-7923-4D45-A9B0-EB017315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B72-1894-4AE4-8101-30E411A9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85A-0381-4AEF-A4FC-1DD70425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7E06-9721-4B22-8844-66CE2AF1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C79-DE20-4545-BF17-36CCE16F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1DA-A083-4D9B-A028-78813D8C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25A-FFDE-4915-A55E-96365997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35F-BF2E-4521-8CF8-F145B855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D96-C158-43AA-AC43-5FAFAEFA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067-2149-4955-8FE5-4333D0D6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9C4-1A2F-4190-9C14-BC4600B4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6A3-5EAE-4C1F-8D8E-6B254327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B429-2EC0-420A-BC9D-87D06D17301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DACC-4DBE-4D13-8788-9A3AEEEE69A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Módulo 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5" descr="musculo.JPG"/>
          <p:cNvPicPr/>
          <p:nvPr/>
        </p:nvPicPr>
        <p:blipFill>
          <a:blip r:embed="rId1"/>
          <a:stretch/>
        </p:blipFill>
        <p:spPr>
          <a:xfrm>
            <a:off x="6516720" y="2421000"/>
            <a:ext cx="1776240" cy="1800000"/>
          </a:xfrm>
          <a:prstGeom prst="rect">
            <a:avLst/>
          </a:prstGeom>
          <a:ln w="0">
            <a:noFill/>
          </a:ln>
        </p:spPr>
      </p:pic>
      <p:pic>
        <p:nvPicPr>
          <p:cNvPr id="97" name="Imagem 6" descr="tecido adiposo.gif"/>
          <p:cNvPicPr/>
          <p:nvPr/>
        </p:nvPicPr>
        <p:blipFill>
          <a:blip r:embed="rId2"/>
          <a:srcRect l="0" t="0" r="33619" b="18365"/>
          <a:stretch/>
        </p:blipFill>
        <p:spPr>
          <a:xfrm>
            <a:off x="6443640" y="4697280"/>
            <a:ext cx="1548000" cy="1440000"/>
          </a:xfrm>
          <a:prstGeom prst="rect">
            <a:avLst/>
          </a:prstGeom>
          <a:ln w="0">
            <a:noFill/>
          </a:ln>
        </p:spPr>
      </p:pic>
      <p:pic>
        <p:nvPicPr>
          <p:cNvPr id="98" name="Imagem 7" descr="figado.jpg"/>
          <p:cNvPicPr/>
          <p:nvPr/>
        </p:nvPicPr>
        <p:blipFill>
          <a:blip r:embed="rId3"/>
          <a:stretch/>
        </p:blipFill>
        <p:spPr>
          <a:xfrm>
            <a:off x="0" y="4653000"/>
            <a:ext cx="2465280" cy="1620720"/>
          </a:xfrm>
          <a:prstGeom prst="rect">
            <a:avLst/>
          </a:prstGeom>
          <a:ln w="0">
            <a:noFill/>
          </a:ln>
        </p:spPr>
      </p:pic>
      <p:sp>
        <p:nvSpPr>
          <p:cNvPr id="99" name="CaixaDeTexto 26"/>
          <p:cNvSpPr/>
          <p:nvPr/>
        </p:nvSpPr>
        <p:spPr>
          <a:xfrm>
            <a:off x="2143800" y="231300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ixaDeTexto 27"/>
          <p:cNvSpPr/>
          <p:nvPr/>
        </p:nvSpPr>
        <p:spPr>
          <a:xfrm>
            <a:off x="2705040" y="3770280"/>
            <a:ext cx="215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↓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↑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gluca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eta dobrada para cima 28"/>
          <p:cNvSpPr/>
          <p:nvPr/>
        </p:nvSpPr>
        <p:spPr>
          <a:xfrm rot="10799400">
            <a:off x="754920" y="4220640"/>
            <a:ext cx="1800360" cy="360360"/>
          </a:xfrm>
          <a:custGeom>
            <a:avLst/>
            <a:gdLst>
              <a:gd name="textAreaLeft" fmla="*/ 0 w 1800360"/>
              <a:gd name="textAreaRight" fmla="*/ 1755360 w 1800360"/>
              <a:gd name="textAreaTop" fmla="*/ 270360 h 360360"/>
              <a:gd name="textAreaBottom" fmla="*/ 360720 h 360360"/>
            </a:gdLst>
            <a:ahLst/>
            <a:rect l="textAreaLeft" t="textAreaTop" r="textAreaRight" b="textAreaBottom"/>
            <a:pathLst>
              <a:path w="1800197" h="360035">
                <a:moveTo>
                  <a:pt x="0" y="270026"/>
                </a:moveTo>
                <a:lnTo>
                  <a:pt x="1665184" y="270026"/>
                </a:lnTo>
                <a:lnTo>
                  <a:pt x="1665184" y="90009"/>
                </a:lnTo>
                <a:lnTo>
                  <a:pt x="1620179" y="90009"/>
                </a:lnTo>
                <a:lnTo>
                  <a:pt x="1710188" y="0"/>
                </a:lnTo>
                <a:lnTo>
                  <a:pt x="1800197" y="90009"/>
                </a:lnTo>
                <a:lnTo>
                  <a:pt x="1755193" y="90009"/>
                </a:lnTo>
                <a:lnTo>
                  <a:pt x="1755193" y="360035"/>
                </a:lnTo>
                <a:lnTo>
                  <a:pt x="0" y="3600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4640" bIns="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Conector angulado 31"/>
          <p:cNvCxnSpPr/>
          <p:nvPr/>
        </p:nvCxnSpPr>
        <p:spPr>
          <a:xfrm flipV="1">
            <a:off x="4787640" y="3859920"/>
            <a:ext cx="1369080" cy="361080"/>
          </a:xfrm>
          <a:prstGeom prst="bentConnector3">
            <a:avLst>
              <a:gd name="adj1" fmla="val 50000"/>
            </a:avLst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Conector angulado 35"/>
          <p:cNvCxnSpPr/>
          <p:nvPr/>
        </p:nvCxnSpPr>
        <p:spPr>
          <a:xfrm>
            <a:off x="4946760" y="4221000"/>
            <a:ext cx="1080000" cy="721440"/>
          </a:xfrm>
          <a:prstGeom prst="bentConnector3">
            <a:avLst>
              <a:gd name="adj1" fmla="val 49983"/>
            </a:avLst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CaixaDeTexto 36"/>
          <p:cNvSpPr/>
          <p:nvPr/>
        </p:nvSpPr>
        <p:spPr>
          <a:xfrm>
            <a:off x="687600" y="5877000"/>
            <a:ext cx="2364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↑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glicogênese hep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aixaDeTexto 37"/>
          <p:cNvSpPr/>
          <p:nvPr/>
        </p:nvSpPr>
        <p:spPr>
          <a:xfrm>
            <a:off x="6309360" y="4149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ptação musc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aixaDeTexto 38"/>
          <p:cNvSpPr/>
          <p:nvPr/>
        </p:nvSpPr>
        <p:spPr>
          <a:xfrm>
            <a:off x="6618240" y="6093000"/>
            <a:ext cx="13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↓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lipogê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↑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lipól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aixaDeTexto 39"/>
          <p:cNvSpPr/>
          <p:nvPr/>
        </p:nvSpPr>
        <p:spPr>
          <a:xfrm>
            <a:off x="3215880" y="5516640"/>
            <a:ext cx="22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GLIC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Homeostase glicêmica: jej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Conector em curva 33"/>
          <p:cNvCxnSpPr/>
          <p:nvPr/>
        </p:nvCxnSpPr>
        <p:spPr>
          <a:xfrm flipV="1" rot="10800000">
            <a:off x="3161520" y="1772280"/>
            <a:ext cx="65520" cy="1259640"/>
          </a:xfrm>
          <a:prstGeom prst="curvedConnector5">
            <a:avLst>
              <a:gd name="adj1" fmla="val 49723"/>
              <a:gd name="adj2" fmla="val 50000"/>
              <a:gd name="adj3" fmla="val 49723"/>
            </a:avLst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110" name="Imagem 1" descr=""/>
          <p:cNvPicPr/>
          <p:nvPr/>
        </p:nvPicPr>
        <p:blipFill>
          <a:blip r:embed="rId4"/>
          <a:srcRect l="9821" t="10693" r="12798" b="4748"/>
          <a:stretch/>
        </p:blipFill>
        <p:spPr>
          <a:xfrm>
            <a:off x="1025640" y="836640"/>
            <a:ext cx="1260360" cy="1079640"/>
          </a:xfrm>
          <a:prstGeom prst="rect">
            <a:avLst/>
          </a:prstGeom>
          <a:ln w="0">
            <a:noFill/>
          </a:ln>
        </p:spPr>
      </p:pic>
      <p:pic>
        <p:nvPicPr>
          <p:cNvPr id="111" name="Imagem 2" descr=""/>
          <p:cNvPicPr/>
          <p:nvPr/>
        </p:nvPicPr>
        <p:blipFill>
          <a:blip r:embed="rId5"/>
          <a:srcRect l="9057" t="16674" r="12555" b="3948"/>
          <a:stretch/>
        </p:blipFill>
        <p:spPr>
          <a:xfrm>
            <a:off x="3119400" y="942840"/>
            <a:ext cx="156852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Imagem 29" descr=""/>
          <p:cNvPicPr/>
          <p:nvPr/>
        </p:nvPicPr>
        <p:blipFill>
          <a:blip r:embed="rId6"/>
          <a:srcRect l="31966" t="28959" r="860" b="9838"/>
          <a:stretch/>
        </p:blipFill>
        <p:spPr>
          <a:xfrm>
            <a:off x="3162240" y="2492280"/>
            <a:ext cx="1481040" cy="1081080"/>
          </a:xfrm>
          <a:prstGeom prst="rect">
            <a:avLst/>
          </a:prstGeom>
          <a:ln w="0">
            <a:noFill/>
          </a:ln>
        </p:spPr>
      </p:pic>
      <p:sp>
        <p:nvSpPr>
          <p:cNvPr id="113" name="CaixaDeTexto 20"/>
          <p:cNvSpPr/>
          <p:nvPr/>
        </p:nvSpPr>
        <p:spPr>
          <a:xfrm>
            <a:off x="1406520" y="350208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aixaDeTexto 19"/>
          <p:cNvSpPr/>
          <p:nvPr/>
        </p:nvSpPr>
        <p:spPr>
          <a:xfrm>
            <a:off x="4934520" y="357516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m 5" descr="musculo.JPG"/>
          <p:cNvPicPr/>
          <p:nvPr/>
        </p:nvPicPr>
        <p:blipFill>
          <a:blip r:embed="rId1"/>
          <a:stretch/>
        </p:blipFill>
        <p:spPr>
          <a:xfrm>
            <a:off x="6516720" y="2421000"/>
            <a:ext cx="1776240" cy="180000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6" descr="tecido adiposo.gif"/>
          <p:cNvPicPr/>
          <p:nvPr/>
        </p:nvPicPr>
        <p:blipFill>
          <a:blip r:embed="rId2"/>
          <a:srcRect l="0" t="0" r="33619" b="18365"/>
          <a:stretch/>
        </p:blipFill>
        <p:spPr>
          <a:xfrm>
            <a:off x="6443640" y="4697280"/>
            <a:ext cx="154800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Imagem 7" descr="figado.jpg"/>
          <p:cNvPicPr/>
          <p:nvPr/>
        </p:nvPicPr>
        <p:blipFill>
          <a:blip r:embed="rId3"/>
          <a:stretch/>
        </p:blipFill>
        <p:spPr>
          <a:xfrm>
            <a:off x="0" y="4653000"/>
            <a:ext cx="2465280" cy="1620720"/>
          </a:xfrm>
          <a:prstGeom prst="rect">
            <a:avLst/>
          </a:prstGeom>
          <a:ln w="0">
            <a:noFill/>
          </a:ln>
        </p:spPr>
      </p:pic>
      <p:sp>
        <p:nvSpPr>
          <p:cNvPr id="118" name="CaixaDeTexto 26"/>
          <p:cNvSpPr/>
          <p:nvPr/>
        </p:nvSpPr>
        <p:spPr>
          <a:xfrm>
            <a:off x="2144880" y="231300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aixaDeTexto 27"/>
          <p:cNvSpPr/>
          <p:nvPr/>
        </p:nvSpPr>
        <p:spPr>
          <a:xfrm>
            <a:off x="2705040" y="3770280"/>
            <a:ext cx="215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↓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↑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gluca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eta dobrada para cima 28"/>
          <p:cNvSpPr/>
          <p:nvPr/>
        </p:nvSpPr>
        <p:spPr>
          <a:xfrm rot="10799400">
            <a:off x="754920" y="4220640"/>
            <a:ext cx="1800360" cy="360360"/>
          </a:xfrm>
          <a:custGeom>
            <a:avLst/>
            <a:gdLst>
              <a:gd name="textAreaLeft" fmla="*/ 0 w 1800360"/>
              <a:gd name="textAreaRight" fmla="*/ 1755360 w 1800360"/>
              <a:gd name="textAreaTop" fmla="*/ 270360 h 360360"/>
              <a:gd name="textAreaBottom" fmla="*/ 360720 h 360360"/>
            </a:gdLst>
            <a:ahLst/>
            <a:rect l="textAreaLeft" t="textAreaTop" r="textAreaRight" b="textAreaBottom"/>
            <a:pathLst>
              <a:path w="1800197" h="360035">
                <a:moveTo>
                  <a:pt x="0" y="270026"/>
                </a:moveTo>
                <a:lnTo>
                  <a:pt x="1665184" y="270026"/>
                </a:lnTo>
                <a:lnTo>
                  <a:pt x="1665184" y="90009"/>
                </a:lnTo>
                <a:lnTo>
                  <a:pt x="1620179" y="90009"/>
                </a:lnTo>
                <a:lnTo>
                  <a:pt x="1710188" y="0"/>
                </a:lnTo>
                <a:lnTo>
                  <a:pt x="1800197" y="90009"/>
                </a:lnTo>
                <a:lnTo>
                  <a:pt x="1755193" y="90009"/>
                </a:lnTo>
                <a:lnTo>
                  <a:pt x="1755193" y="360035"/>
                </a:lnTo>
                <a:lnTo>
                  <a:pt x="0" y="3600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4640" bIns="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Conector angulado 31"/>
          <p:cNvCxnSpPr/>
          <p:nvPr/>
        </p:nvCxnSpPr>
        <p:spPr>
          <a:xfrm flipV="1">
            <a:off x="4787640" y="3859920"/>
            <a:ext cx="1369080" cy="361080"/>
          </a:xfrm>
          <a:prstGeom prst="bentConnector3">
            <a:avLst>
              <a:gd name="adj1" fmla="val 50000"/>
            </a:avLst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Conector angulado 35"/>
          <p:cNvCxnSpPr/>
          <p:nvPr/>
        </p:nvCxnSpPr>
        <p:spPr>
          <a:xfrm>
            <a:off x="4946760" y="4221000"/>
            <a:ext cx="1080000" cy="721440"/>
          </a:xfrm>
          <a:prstGeom prst="bentConnector3">
            <a:avLst>
              <a:gd name="adj1" fmla="val 49983"/>
            </a:avLst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CaixaDeTexto 36"/>
          <p:cNvSpPr/>
          <p:nvPr/>
        </p:nvSpPr>
        <p:spPr>
          <a:xfrm>
            <a:off x="687600" y="5877000"/>
            <a:ext cx="2364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↑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glicogênese hep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aixaDeTexto 37"/>
          <p:cNvSpPr/>
          <p:nvPr/>
        </p:nvSpPr>
        <p:spPr>
          <a:xfrm>
            <a:off x="6309360" y="4149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ptação musc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CaixaDeTexto 38"/>
          <p:cNvSpPr/>
          <p:nvPr/>
        </p:nvSpPr>
        <p:spPr>
          <a:xfrm>
            <a:off x="6618240" y="6093000"/>
            <a:ext cx="13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↓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lipogê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↑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lipól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aixaDeTexto 39"/>
          <p:cNvSpPr/>
          <p:nvPr/>
        </p:nvSpPr>
        <p:spPr>
          <a:xfrm>
            <a:off x="2570760" y="5230800"/>
            <a:ext cx="31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HIPERGLIC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Homeostase glicêmica: diabetes mellitu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Conector em curva 33"/>
          <p:cNvCxnSpPr/>
          <p:nvPr/>
        </p:nvCxnSpPr>
        <p:spPr>
          <a:xfrm flipV="1" rot="10800000">
            <a:off x="3058560" y="1843560"/>
            <a:ext cx="67320" cy="12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129" name="Imagem 29" descr=""/>
          <p:cNvPicPr/>
          <p:nvPr/>
        </p:nvPicPr>
        <p:blipFill>
          <a:blip r:embed="rId4"/>
          <a:srcRect l="31966" t="28959" r="860" b="9838"/>
          <a:stretch/>
        </p:blipFill>
        <p:spPr>
          <a:xfrm>
            <a:off x="3059280" y="2565360"/>
            <a:ext cx="1482480" cy="1079640"/>
          </a:xfrm>
          <a:prstGeom prst="rect">
            <a:avLst/>
          </a:prstGeom>
          <a:ln w="0">
            <a:noFill/>
          </a:ln>
        </p:spPr>
      </p:pic>
      <p:sp>
        <p:nvSpPr>
          <p:cNvPr id="130" name="CaixaDeTexto 20"/>
          <p:cNvSpPr/>
          <p:nvPr/>
        </p:nvSpPr>
        <p:spPr>
          <a:xfrm>
            <a:off x="1406520" y="350208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Imagem 19" descr="comida-noturna.jpg"/>
          <p:cNvPicPr/>
          <p:nvPr/>
        </p:nvPicPr>
        <p:blipFill>
          <a:blip r:embed="rId5"/>
          <a:srcRect l="0" t="25399" r="0" b="0"/>
          <a:stretch/>
        </p:blipFill>
        <p:spPr>
          <a:xfrm>
            <a:off x="1539720" y="944640"/>
            <a:ext cx="1303560" cy="97164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21" descr=""/>
          <p:cNvPicPr/>
          <p:nvPr/>
        </p:nvPicPr>
        <p:blipFill>
          <a:blip r:embed="rId6"/>
          <a:srcRect l="18339" t="9247" r="15203" b="9933"/>
          <a:stretch/>
        </p:blipFill>
        <p:spPr>
          <a:xfrm>
            <a:off x="3166920" y="1197000"/>
            <a:ext cx="1416240" cy="1440000"/>
          </a:xfrm>
          <a:prstGeom prst="rect">
            <a:avLst/>
          </a:prstGeom>
          <a:ln w="0">
            <a:noFill/>
          </a:ln>
        </p:spPr>
      </p:pic>
      <p:sp>
        <p:nvSpPr>
          <p:cNvPr id="133" name="CaixaDeTexto 22"/>
          <p:cNvSpPr/>
          <p:nvPr/>
        </p:nvSpPr>
        <p:spPr>
          <a:xfrm>
            <a:off x="2143800" y="231300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aixaDeTexto 23"/>
          <p:cNvSpPr/>
          <p:nvPr/>
        </p:nvSpPr>
        <p:spPr>
          <a:xfrm>
            <a:off x="4968720" y="364644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m 9" descr=""/>
          <p:cNvPicPr/>
          <p:nvPr/>
        </p:nvPicPr>
        <p:blipFill>
          <a:blip r:embed="rId1"/>
          <a:stretch/>
        </p:blipFill>
        <p:spPr>
          <a:xfrm>
            <a:off x="5724360" y="3933720"/>
            <a:ext cx="1992600" cy="2519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Classific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M tip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78920" y="2174760"/>
            <a:ext cx="42483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estruição da célula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eficiência absoluta de insul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presenta 5 a 10% de todos os casos de D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M tipo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4720" y="2174760"/>
            <a:ext cx="43196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Graus variados de resistência insulí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eficiência na secreção de insulin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Imagem 8" descr=""/>
          <p:cNvPicPr/>
          <p:nvPr/>
        </p:nvPicPr>
        <p:blipFill>
          <a:blip r:embed="rId2"/>
          <a:stretch/>
        </p:blipFill>
        <p:spPr>
          <a:xfrm>
            <a:off x="708120" y="3933720"/>
            <a:ext cx="2976480" cy="2230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053"/>
          <p:cNvSpPr/>
          <p:nvPr/>
        </p:nvSpPr>
        <p:spPr>
          <a:xfrm>
            <a:off x="6469560" y="6394320"/>
            <a:ext cx="263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Sociedade Brasileira de Diabe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aderno de Atenção Básica n.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Classific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Espaço Reservado para Conteúdo 17" descr=""/>
          <p:cNvPicPr/>
          <p:nvPr/>
        </p:nvPicPr>
        <p:blipFill>
          <a:blip r:embed="rId1"/>
          <a:stretch/>
        </p:blipFill>
        <p:spPr>
          <a:xfrm>
            <a:off x="395280" y="243684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211280" y="16002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imeira consulta pré-nat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ritérios padrã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92 a 126 mg/dL: D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&gt; 126mg/dL: DM pré-gestacional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4 a 28 semanas de gest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OTG: 75 g de glicose anid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empo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0: ≥ 92 mg/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 h: ≥ 180 mg/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 h: ≥ 153 mg/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479600"/>
            <a:ext cx="860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Outros tipos específic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feitos genéticos funcionais da célula b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feitos genéticos na ação da insul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c00000"/>
                </a:solidFill>
                <a:latin typeface="Calibri"/>
              </a:rPr>
              <a:t>Doenças do pâncreas exócri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ndocrinopatias (Cushing,  Acromegalia, Feocromocitom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duzidas por fármacos e agentes químicos (corticoide, beta-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bloqueador, diurétic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fecções (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hormônios contra - regulador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utras síndromes genéticas geralmente associadas ao diabe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184800" y="6512040"/>
            <a:ext cx="268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Fonte: Sociedade Brasileira de Diabe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52280" y="379440"/>
            <a:ext cx="89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Classificaçã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Organização Mundial de Saú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Espaço Reservado para Conteúdo 3"/>
          <p:cNvGrpSpPr/>
          <p:nvPr/>
        </p:nvGrpSpPr>
        <p:grpSpPr>
          <a:xfrm>
            <a:off x="457200" y="1601640"/>
            <a:ext cx="8229600" cy="4523040"/>
            <a:chOff x="457200" y="1601640"/>
            <a:chExt cx="8229600" cy="4523040"/>
          </a:xfrm>
        </p:grpSpPr>
        <p:sp>
          <p:nvSpPr>
            <p:cNvPr id="151" name="Forma livre 3"/>
            <p:cNvSpPr/>
            <p:nvPr/>
          </p:nvSpPr>
          <p:spPr>
            <a:xfrm>
              <a:off x="3419640" y="1747440"/>
              <a:ext cx="5267160" cy="1167120"/>
            </a:xfrm>
            <a:prstGeom prst="pie">
              <a:avLst/>
            </a:prstGeom>
            <a:solidFill>
              <a:srgbClr val="d8d3e0">
                <a:alpha val="90000"/>
              </a:srgbClr>
            </a:solidFill>
            <a:ln w="9360">
              <a:solidFill>
                <a:srgbClr val="d3cedb">
                  <a:alpha val="9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7680" rIns="304560" tIns="180720" bIns="18072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499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243080"/>
                  <a:tab algn="l" pos="2486160"/>
                  <a:tab algn="l" pos="3728880"/>
                  <a:tab algn="l" pos="4971960"/>
                  <a:tab algn="l" pos="6215040"/>
                  <a:tab algn="l" pos="7458120"/>
                  <a:tab algn="l" pos="8701200"/>
                  <a:tab algn="l" pos="994428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pessoas no mundo têm diabet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orma livre 4"/>
            <p:cNvSpPr/>
            <p:nvPr/>
          </p:nvSpPr>
          <p:spPr>
            <a:xfrm>
              <a:off x="457200" y="1601640"/>
              <a:ext cx="2962440" cy="1459080"/>
            </a:xfrm>
            <a:prstGeom prst="pie">
              <a:avLst/>
            </a:prstGeom>
            <a:gradFill rotWithShape="0">
              <a:gsLst>
                <a:gs pos="0">
                  <a:srgbClr val="5d417e"/>
                </a:gs>
                <a:gs pos="100000">
                  <a:srgbClr val="7b58a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27520" rIns="227520" tIns="149400" bIns="14940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r>
                <a:rPr b="0" lang="pt-BR" sz="4100" spc="-1" strike="noStrike">
                  <a:solidFill>
                    <a:srgbClr val="ffffff"/>
                  </a:solidFill>
                  <a:latin typeface="Calibri"/>
                </a:rPr>
                <a:t>346 milhões </a:t>
              </a: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orma livre 5"/>
            <p:cNvSpPr/>
            <p:nvPr/>
          </p:nvSpPr>
          <p:spPr>
            <a:xfrm>
              <a:off x="3419640" y="3279600"/>
              <a:ext cx="5267160" cy="1167120"/>
            </a:xfrm>
            <a:prstGeom prst="pie">
              <a:avLst/>
            </a:prstGeom>
            <a:solidFill>
              <a:srgbClr val="d1d4e5">
                <a:alpha val="90000"/>
              </a:srgbClr>
            </a:solidFill>
            <a:ln w="9360">
              <a:solidFill>
                <a:srgbClr val="cccfe1">
                  <a:alpha val="9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7680" rIns="304560" tIns="180720" bIns="18072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499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243080"/>
                  <a:tab algn="l" pos="2486160"/>
                  <a:tab algn="l" pos="3728880"/>
                  <a:tab algn="l" pos="4971960"/>
                  <a:tab algn="l" pos="6215040"/>
                  <a:tab algn="l" pos="7458120"/>
                  <a:tab algn="l" pos="8701200"/>
                  <a:tab algn="l" pos="994428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pessoas morreram em 2004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orma livre 6"/>
            <p:cNvSpPr/>
            <p:nvPr/>
          </p:nvSpPr>
          <p:spPr>
            <a:xfrm>
              <a:off x="457200" y="3133440"/>
              <a:ext cx="2962440" cy="1459080"/>
            </a:xfrm>
            <a:prstGeom prst="pie">
              <a:avLst/>
            </a:prstGeom>
            <a:gradFill rotWithShape="0">
              <a:gsLst>
                <a:gs pos="0">
                  <a:srgbClr val="34438f"/>
                </a:gs>
                <a:gs pos="100000">
                  <a:srgbClr val="475ab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27520" rIns="227520" tIns="149400" bIns="14940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r>
                <a:rPr b="0" lang="pt-BR" sz="4100" spc="-1" strike="noStrike">
                  <a:solidFill>
                    <a:srgbClr val="ffffff"/>
                  </a:solidFill>
                  <a:latin typeface="Calibri"/>
                </a:rPr>
                <a:t>3,4 milhões</a:t>
              </a: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orma livre 7"/>
            <p:cNvSpPr/>
            <p:nvPr/>
          </p:nvSpPr>
          <p:spPr>
            <a:xfrm>
              <a:off x="3419640" y="4811760"/>
              <a:ext cx="5267160" cy="1167120"/>
            </a:xfrm>
            <a:prstGeom prst="pie">
              <a:avLst/>
            </a:prstGeom>
            <a:solidFill>
              <a:srgbClr val="d0e3ea">
                <a:alpha val="90000"/>
              </a:srgbClr>
            </a:solidFill>
            <a:ln w="9360">
              <a:solidFill>
                <a:srgbClr val="cadee6">
                  <a:alpha val="9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7680" rIns="304560" tIns="180720" bIns="18072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499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243080"/>
                  <a:tab algn="l" pos="2486160"/>
                  <a:tab algn="l" pos="3728880"/>
                  <a:tab algn="l" pos="4971960"/>
                  <a:tab algn="l" pos="6215040"/>
                  <a:tab algn="l" pos="7458120"/>
                  <a:tab algn="l" pos="8701200"/>
                  <a:tab algn="l" pos="994428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por diabetes ocorrem em países de baixa e média rend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499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243080"/>
                  <a:tab algn="l" pos="2486160"/>
                  <a:tab algn="l" pos="3728880"/>
                  <a:tab algn="l" pos="4971960"/>
                  <a:tab algn="l" pos="6215040"/>
                  <a:tab algn="l" pos="7458120"/>
                  <a:tab algn="l" pos="8701200"/>
                  <a:tab algn="l" pos="99442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orma livre 8"/>
            <p:cNvSpPr/>
            <p:nvPr/>
          </p:nvSpPr>
          <p:spPr>
            <a:xfrm>
              <a:off x="457200" y="4665600"/>
              <a:ext cx="2962440" cy="1459080"/>
            </a:xfrm>
            <a:prstGeom prst="pi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6b1d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27520" rIns="227520" tIns="149400" bIns="14940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r>
                <a:rPr b="0" lang="pt-BR" sz="4100" spc="-1" strike="noStrike">
                  <a:solidFill>
                    <a:srgbClr val="ffffff"/>
                  </a:solidFill>
                  <a:latin typeface="Calibri"/>
                </a:rPr>
                <a:t>80% das mortes</a:t>
              </a: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CaixaDeTexto 4"/>
          <p:cNvSpPr/>
          <p:nvPr/>
        </p:nvSpPr>
        <p:spPr>
          <a:xfrm>
            <a:off x="5940000" y="645336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ttp://www.who.int/diabe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abetes mellitus no Bras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57240" y="1484280"/>
            <a:ext cx="7229520" cy="4896000"/>
          </a:xfrm>
          <a:prstGeom prst="rect">
            <a:avLst/>
          </a:prstGeom>
          <a:ln w="0">
            <a:noFill/>
          </a:ln>
        </p:spPr>
      </p:pic>
      <p:sp>
        <p:nvSpPr>
          <p:cNvPr id="160" name="CaixaDeTexto 4"/>
          <p:cNvSpPr/>
          <p:nvPr/>
        </p:nvSpPr>
        <p:spPr>
          <a:xfrm>
            <a:off x="1678680" y="6392880"/>
            <a:ext cx="72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VIGITEL – Vigilância de Fatores de Risco e Proteção para Doenças Crônicas por Inquérito Telefônico/2009/20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aixaDeTexto 1"/>
          <p:cNvSpPr/>
          <p:nvPr/>
        </p:nvSpPr>
        <p:spPr>
          <a:xfrm>
            <a:off x="3200760" y="280980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 Narrow"/>
              </a:rPr>
              <a:t>Vigitel 2011 DM = 5,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abetes mellitus no Brasil: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agnóstico por faixa etá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rcRect l="0" t="0" r="7750" b="0"/>
          <a:stretch/>
        </p:blipFill>
        <p:spPr>
          <a:xfrm>
            <a:off x="658800" y="1690560"/>
            <a:ext cx="7826400" cy="4356360"/>
          </a:xfrm>
          <a:prstGeom prst="rect">
            <a:avLst/>
          </a:prstGeom>
          <a:ln w="0">
            <a:noFill/>
          </a:ln>
        </p:spPr>
      </p:pic>
      <p:sp>
        <p:nvSpPr>
          <p:cNvPr id="164" name="CaixaDeTexto 4"/>
          <p:cNvSpPr/>
          <p:nvPr/>
        </p:nvSpPr>
        <p:spPr>
          <a:xfrm>
            <a:off x="1237320" y="6524640"/>
            <a:ext cx="783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http://portalsaude.saude.gov.br/portalsaude/arquivos/pdf/2012/Mai/09/Vigitel_2011_diabetes_final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abetes mellitus tipo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abetes mellitus tipo 1: caracterís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Espaço Reservado para Conteúdo 3" descr=""/>
          <p:cNvPicPr/>
          <p:nvPr/>
        </p:nvPicPr>
        <p:blipFill>
          <a:blip r:embed="rId1"/>
          <a:stretch/>
        </p:blipFill>
        <p:spPr>
          <a:xfrm>
            <a:off x="1660680" y="1628640"/>
            <a:ext cx="58640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efini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oença metabólica que tem como característica a hiperglicemia resultante de defeitos na secreção e, ou também, na ação da insu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Diagrama 4"/>
          <p:cNvGrpSpPr/>
          <p:nvPr/>
        </p:nvGrpSpPr>
        <p:grpSpPr>
          <a:xfrm>
            <a:off x="2051280" y="3357720"/>
            <a:ext cx="5041440" cy="3240000"/>
            <a:chOff x="2051280" y="3357720"/>
            <a:chExt cx="5041440" cy="3240000"/>
          </a:xfrm>
        </p:grpSpPr>
        <p:sp>
          <p:nvSpPr>
            <p:cNvPr id="52" name="Forma livre 4"/>
            <p:cNvSpPr/>
            <p:nvPr/>
          </p:nvSpPr>
          <p:spPr>
            <a:xfrm rot="21300000">
              <a:off x="2066400" y="4690800"/>
              <a:ext cx="5010480" cy="573480"/>
            </a:xfrm>
            <a:custGeom>
              <a:avLst/>
              <a:gdLst>
                <a:gd name="textAreaLeft" fmla="*/ 663840 w 5010480"/>
                <a:gd name="textAreaRight" fmla="*/ 4346640 w 5010480"/>
                <a:gd name="textAreaTop" fmla="*/ 219240 h 573480"/>
                <a:gd name="textAreaBottom" fmla="*/ 354240 h 573480"/>
              </a:gdLst>
              <a:ahLst/>
              <a:rect l="textAreaLeft" t="textAreaTop" r="textAreaRight" b="textAreaBottom"/>
              <a:pathLst>
                <a:path w="5009064" h="573612">
                  <a:moveTo>
                    <a:pt x="663951" y="219349"/>
                  </a:moveTo>
                  <a:lnTo>
                    <a:pt x="4345113" y="219349"/>
                  </a:lnTo>
                  <a:lnTo>
                    <a:pt x="4345113" y="354263"/>
                  </a:lnTo>
                  <a:lnTo>
                    <a:pt x="663951" y="354263"/>
                  </a:lnTo>
                  <a:close/>
                </a:path>
              </a:pathLst>
            </a:custGeom>
            <a:solidFill>
              <a:srgbClr val="e8d0d0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orma livre 5"/>
            <p:cNvSpPr/>
            <p:nvPr/>
          </p:nvSpPr>
          <p:spPr>
            <a:xfrm>
              <a:off x="2656080" y="3519720"/>
              <a:ext cx="1512360" cy="1296000"/>
            </a:xfrm>
            <a:custGeom>
              <a:avLst/>
              <a:gdLst>
                <a:gd name="textAreaLeft" fmla="*/ 378000 w 1512360"/>
                <a:gd name="textAreaRight" fmla="*/ 1134360 w 1512360"/>
                <a:gd name="textAreaTop" fmla="*/ 0 h 1296000"/>
                <a:gd name="textAreaBottom" fmla="*/ 972000 h 129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5400" y="10800"/>
                  </a:lnTo>
                  <a:lnTo>
                    <a:pt x="0" y="10800"/>
                  </a:lnTo>
                  <a:lnTo>
                    <a:pt x="10800" y="21600"/>
                  </a:lnTo>
                  <a:lnTo>
                    <a:pt x="21600" y="10800"/>
                  </a:lnTo>
                  <a:lnTo>
                    <a:pt x="16200" y="10800"/>
                  </a:lnTo>
                  <a:lnTo>
                    <a:pt x="16200" y="0"/>
                  </a:lnTo>
                  <a:close/>
                </a:path>
              </a:pathLst>
            </a:custGeom>
            <a:solidFill>
              <a:srgbClr val="c0504d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orma livre 6"/>
            <p:cNvSpPr/>
            <p:nvPr/>
          </p:nvSpPr>
          <p:spPr>
            <a:xfrm>
              <a:off x="4284360" y="3357720"/>
              <a:ext cx="2491200" cy="136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080" rIns="199080" tIns="199080" bIns="19908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1243080"/>
                  <a:tab algn="l" pos="2486160"/>
                  <a:tab algn="l" pos="3728880"/>
                  <a:tab algn="l" pos="4971960"/>
                  <a:tab algn="l" pos="6215040"/>
                  <a:tab algn="l" pos="7458120"/>
                  <a:tab algn="l" pos="8701200"/>
                  <a:tab algn="l" pos="994428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Secreção / ação insulin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orma livre 7"/>
            <p:cNvSpPr/>
            <p:nvPr/>
          </p:nvSpPr>
          <p:spPr>
            <a:xfrm>
              <a:off x="4975200" y="5139720"/>
              <a:ext cx="1512360" cy="1296000"/>
            </a:xfrm>
            <a:custGeom>
              <a:avLst/>
              <a:gdLst>
                <a:gd name="textAreaLeft" fmla="*/ 378000 w 1512360"/>
                <a:gd name="textAreaRight" fmla="*/ 1134360 w 1512360"/>
                <a:gd name="textAreaTop" fmla="*/ 324000 h 1296000"/>
                <a:gd name="textAreaBottom" fmla="*/ 1296000 h 129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21600"/>
                  </a:moveTo>
                  <a:lnTo>
                    <a:pt x="5400" y="10800"/>
                  </a:lnTo>
                  <a:lnTo>
                    <a:pt x="0" y="108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6200" y="10800"/>
                  </a:lnTo>
                  <a:lnTo>
                    <a:pt x="16200" y="21600"/>
                  </a:lnTo>
                  <a:close/>
                </a:path>
              </a:pathLst>
            </a:custGeom>
            <a:solidFill>
              <a:srgbClr val="9bbb5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orma livre 8"/>
            <p:cNvSpPr/>
            <p:nvPr/>
          </p:nvSpPr>
          <p:spPr>
            <a:xfrm>
              <a:off x="2807280" y="5236920"/>
              <a:ext cx="1613160" cy="136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080" rIns="199080" tIns="199080" bIns="19908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1243080"/>
                  <a:tab algn="l" pos="2486160"/>
                  <a:tab algn="l" pos="3728880"/>
                  <a:tab algn="l" pos="4971960"/>
                  <a:tab algn="l" pos="6215040"/>
                  <a:tab algn="l" pos="7458120"/>
                  <a:tab algn="l" pos="8701200"/>
                  <a:tab algn="l" pos="994428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glicemi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7640" y="1341000"/>
            <a:ext cx="8661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Susceptibilidade genét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HLA-DR3 e HLA-DR4 e, principalmente, no 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locu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HLA-DQ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DDM2: ( região 5’ do gene da insulina (INS)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atores desencadea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Fatores dietétic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leite de vaca, introdução precoce de cereais/glút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limentos contendo nitrito, nitrato ou nitrosaminas :vegetais e  produtos de carne ( salsicha e linguiç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Infecções virai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itomegalovírus, rubéola, enterovírus e proteína retroviral p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fecção congênita da rubéo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Drog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omposto N-nitroso (raticida – Vaco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Etiologia e fisiopatolog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Espaço Reservado para Conteúdo 3" descr=""/>
          <p:cNvPicPr/>
          <p:nvPr/>
        </p:nvPicPr>
        <p:blipFill>
          <a:blip r:embed="rId1"/>
          <a:stretch/>
        </p:blipFill>
        <p:spPr>
          <a:xfrm>
            <a:off x="-19080" y="1663560"/>
            <a:ext cx="8858160" cy="4213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Etiologia e fisiopatolog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abetes mellitus tipo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abetes mellitus tipo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Espaço Reservado para Conteúdo 3" descr=""/>
          <p:cNvPicPr/>
          <p:nvPr/>
        </p:nvPicPr>
        <p:blipFill>
          <a:blip r:embed="rId1"/>
          <a:stretch/>
        </p:blipFill>
        <p:spPr>
          <a:xfrm>
            <a:off x="1179360" y="1600200"/>
            <a:ext cx="678528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Resistência Insulín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8480" indent="-258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edução da ação biológica da insul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8480" indent="-258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aracterizada pela hiperinsulinemia com normo/hiperglic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8480" indent="-258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sociada com obesidade, estilo de vida e outros fatores ambientais e genét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8480" indent="-258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ausa fundamental do diabetes tipo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Síndrome Metaból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Espaço Reservado para Conteúdo 3" descr=""/>
          <p:cNvPicPr/>
          <p:nvPr/>
        </p:nvPicPr>
        <p:blipFill>
          <a:blip r:embed="rId1"/>
          <a:srcRect l="11409" t="12114" r="5687" b="14637"/>
          <a:stretch/>
        </p:blipFill>
        <p:spPr>
          <a:xfrm>
            <a:off x="635040" y="1484280"/>
            <a:ext cx="7873920" cy="4969080"/>
          </a:xfrm>
          <a:prstGeom prst="rect">
            <a:avLst/>
          </a:prstGeom>
          <a:ln w="0">
            <a:noFill/>
          </a:ln>
        </p:spPr>
      </p:pic>
      <p:sp>
        <p:nvSpPr>
          <p:cNvPr id="181" name="CaixaDeTexto 4"/>
          <p:cNvSpPr/>
          <p:nvPr/>
        </p:nvSpPr>
        <p:spPr>
          <a:xfrm>
            <a:off x="4022280" y="6524640"/>
            <a:ext cx="507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aptado: Williams G, Pickup JC. Handbook of Diabetes. 2004, 3 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envolvimento e Progressão do DM 2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 suas complicaçõ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827760" y="2465280"/>
            <a:ext cx="1828800" cy="365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uli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827760" y="1630440"/>
            <a:ext cx="1828800" cy="36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istência à insuli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827760" y="2054160"/>
            <a:ext cx="182880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du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pática de glico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6827760" y="3292560"/>
            <a:ext cx="1828800" cy="365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icem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ós-prandi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6827760" y="3730680"/>
            <a:ext cx="1828800" cy="365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icemia de jej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6827760" y="2873520"/>
            <a:ext cx="182880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ção células-B</a:t>
            </a:r>
            <a:r>
              <a:rPr b="1" lang="el-G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503280" y="1073160"/>
            <a:ext cx="8183520" cy="52056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essão do Diabetes Mellitus tipo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458640" y="5197320"/>
            <a:ext cx="2829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3429000"/>
                <a:tab algn="l" pos="4457880"/>
                <a:tab algn="l" pos="4976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olerância à Glicose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147760" y="5519880"/>
            <a:ext cx="2462400" cy="307080"/>
          </a:xfrm>
          <a:prstGeom prst="rect">
            <a:avLst/>
          </a:prstGeom>
          <a:solidFill>
            <a:srgbClr val="c3d69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agnóstico de Diabe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15"/>
          <p:cNvSpPr/>
          <p:nvPr/>
        </p:nvSpPr>
        <p:spPr>
          <a:xfrm flipV="1">
            <a:off x="3386160" y="5166720"/>
            <a:ext cx="360" cy="345960"/>
          </a:xfrm>
          <a:custGeom>
            <a:avLst/>
            <a:gdLst/>
            <a:ahLst/>
            <a:rect l="l" t="t" r="r" b="b"/>
            <a:pathLst>
              <a:path w="0" h="346072">
                <a:moveTo>
                  <a:pt x="0" y="0"/>
                </a:moveTo>
                <a:lnTo>
                  <a:pt x="1" y="346072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3371760" y="5197320"/>
            <a:ext cx="3046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3429000"/>
                <a:tab algn="l" pos="4457880"/>
                <a:tab algn="l" pos="4976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abetes clín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17"/>
          <p:cNvSpPr/>
          <p:nvPr/>
        </p:nvSpPr>
        <p:spPr>
          <a:xfrm flipV="1">
            <a:off x="3382920" y="1611360"/>
            <a:ext cx="9720" cy="3548160"/>
          </a:xfrm>
          <a:custGeom>
            <a:avLst/>
            <a:gdLst>
              <a:gd name="textAreaLeft" fmla="*/ 0 w 9720"/>
              <a:gd name="textAreaRight" fmla="*/ 10080 w 9720"/>
              <a:gd name="textAreaTop" fmla="*/ 360 h 3548160"/>
              <a:gd name="textAreaBottom" fmla="*/ 3548880 h 3548160"/>
            </a:gdLst>
            <a:ahLst/>
            <a:rect l="textAreaLeft" t="textAreaTop" r="textAreaRight" b="textAreaBottom"/>
            <a:pathLst>
              <a:path w="9528" h="3548064">
                <a:moveTo>
                  <a:pt x="0" y="0"/>
                </a:moveTo>
                <a:lnTo>
                  <a:pt x="9528" y="35480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8"/>
          <p:cNvSpPr/>
          <p:nvPr/>
        </p:nvSpPr>
        <p:spPr>
          <a:xfrm flipV="1">
            <a:off x="458640" y="3104640"/>
            <a:ext cx="6210360" cy="5040"/>
          </a:xfrm>
          <a:custGeom>
            <a:avLst/>
            <a:gdLst>
              <a:gd name="textAreaLeft" fmla="*/ 0 w 6210360"/>
              <a:gd name="textAreaRight" fmla="*/ 6210720 w 6210360"/>
              <a:gd name="textAreaTop" fmla="*/ 360 h 5040"/>
              <a:gd name="textAreaBottom" fmla="*/ 5760 h 5040"/>
            </a:gdLst>
            <a:ahLst/>
            <a:rect l="textAreaLeft" t="textAreaTop" r="textAreaRight" b="textAreaBottom"/>
            <a:pathLst>
              <a:path w="6210303" h="4764">
                <a:moveTo>
                  <a:pt x="0" y="0"/>
                </a:moveTo>
                <a:lnTo>
                  <a:pt x="6210303" y="47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Group 19"/>
          <p:cNvGrpSpPr/>
          <p:nvPr/>
        </p:nvGrpSpPr>
        <p:grpSpPr>
          <a:xfrm>
            <a:off x="649080" y="3198960"/>
            <a:ext cx="2635560" cy="307800"/>
            <a:chOff x="649080" y="3198960"/>
            <a:chExt cx="2635560" cy="307800"/>
          </a:xfrm>
        </p:grpSpPr>
        <p:sp>
          <p:nvSpPr>
            <p:cNvPr id="197" name="Text Box 20"/>
            <p:cNvSpPr/>
            <p:nvPr/>
          </p:nvSpPr>
          <p:spPr>
            <a:xfrm>
              <a:off x="1448280" y="3198960"/>
              <a:ext cx="16545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–7 ano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Line 21"/>
            <p:cNvSpPr/>
            <p:nvPr/>
          </p:nvSpPr>
          <p:spPr>
            <a:xfrm flipV="1">
              <a:off x="2412000" y="3355920"/>
              <a:ext cx="872640" cy="360"/>
            </a:xfrm>
            <a:custGeom>
              <a:avLst/>
              <a:gdLst/>
              <a:ahLst/>
              <a:rect l="l" t="t" r="r" b="b"/>
              <a:pathLst>
                <a:path w="872703" h="0">
                  <a:moveTo>
                    <a:pt x="0" y="0"/>
                  </a:moveTo>
                  <a:lnTo>
                    <a:pt x="872703" y="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22"/>
            <p:cNvSpPr/>
            <p:nvPr/>
          </p:nvSpPr>
          <p:spPr>
            <a:xfrm flipH="1" flipV="1">
              <a:off x="648720" y="3356640"/>
              <a:ext cx="793800" cy="3600"/>
            </a:xfrm>
            <a:custGeom>
              <a:avLst/>
              <a:gdLst>
                <a:gd name="textAreaLeft" fmla="*/ -360 w 793800"/>
                <a:gd name="textAreaRight" fmla="*/ 793800 w 793800"/>
                <a:gd name="textAreaTop" fmla="*/ 360 h 3600"/>
                <a:gd name="textAreaBottom" fmla="*/ 4320 h 3600"/>
              </a:gdLst>
              <a:ahLst/>
              <a:rect l="textAreaLeft" t="textAreaTop" r="textAreaRight" b="textAreaBottom"/>
              <a:pathLst>
                <a:path w="793836" h="3886">
                  <a:moveTo>
                    <a:pt x="0" y="0"/>
                  </a:moveTo>
                  <a:lnTo>
                    <a:pt x="793836" y="388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Freeform 24"/>
          <p:cNvSpPr/>
          <p:nvPr/>
        </p:nvSpPr>
        <p:spPr>
          <a:xfrm>
            <a:off x="457200" y="1793880"/>
            <a:ext cx="6124680" cy="1123920"/>
          </a:xfrm>
          <a:custGeom>
            <a:avLst/>
            <a:gdLst>
              <a:gd name="textAreaLeft" fmla="*/ 0 w 6124680"/>
              <a:gd name="textAreaRight" fmla="*/ 6125040 w 612468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2112" h="144">
                <a:moveTo>
                  <a:pt x="0" y="0"/>
                </a:moveTo>
                <a:cubicBezTo>
                  <a:pt x="880" y="60"/>
                  <a:pt x="1760" y="120"/>
                  <a:pt x="2112" y="144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25"/>
          <p:cNvSpPr/>
          <p:nvPr/>
        </p:nvSpPr>
        <p:spPr>
          <a:xfrm>
            <a:off x="476280" y="3603600"/>
            <a:ext cx="6145200" cy="1030320"/>
          </a:xfrm>
          <a:custGeom>
            <a:avLst/>
            <a:gdLst>
              <a:gd name="textAreaLeft" fmla="*/ 0 w 6145200"/>
              <a:gd name="textAreaRight" fmla="*/ 6145560 w 614520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1584" h="192">
                <a:moveTo>
                  <a:pt x="0" y="192"/>
                </a:moveTo>
                <a:cubicBezTo>
                  <a:pt x="228" y="184"/>
                  <a:pt x="456" y="176"/>
                  <a:pt x="720" y="144"/>
                </a:cubicBezTo>
                <a:cubicBezTo>
                  <a:pt x="984" y="112"/>
                  <a:pt x="1440" y="24"/>
                  <a:pt x="1584" y="0"/>
                </a:cubicBezTo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26"/>
          <p:cNvSpPr/>
          <p:nvPr/>
        </p:nvSpPr>
        <p:spPr>
          <a:xfrm>
            <a:off x="476280" y="3378240"/>
            <a:ext cx="6135480" cy="1228680"/>
          </a:xfrm>
          <a:custGeom>
            <a:avLst/>
            <a:gdLst>
              <a:gd name="textAreaLeft" fmla="*/ 0 w 6135480"/>
              <a:gd name="textAreaRight" fmla="*/ 6135840 w 613548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3564" h="946">
                <a:moveTo>
                  <a:pt x="0" y="942"/>
                </a:moveTo>
                <a:cubicBezTo>
                  <a:pt x="72" y="944"/>
                  <a:pt x="144" y="946"/>
                  <a:pt x="240" y="942"/>
                </a:cubicBezTo>
                <a:cubicBezTo>
                  <a:pt x="336" y="938"/>
                  <a:pt x="483" y="928"/>
                  <a:pt x="579" y="918"/>
                </a:cubicBezTo>
                <a:cubicBezTo>
                  <a:pt x="675" y="908"/>
                  <a:pt x="738" y="898"/>
                  <a:pt x="816" y="885"/>
                </a:cubicBezTo>
                <a:cubicBezTo>
                  <a:pt x="894" y="872"/>
                  <a:pt x="974" y="857"/>
                  <a:pt x="1047" y="840"/>
                </a:cubicBezTo>
                <a:cubicBezTo>
                  <a:pt x="1120" y="823"/>
                  <a:pt x="1192" y="803"/>
                  <a:pt x="1257" y="783"/>
                </a:cubicBezTo>
                <a:cubicBezTo>
                  <a:pt x="1322" y="763"/>
                  <a:pt x="1373" y="746"/>
                  <a:pt x="1434" y="720"/>
                </a:cubicBezTo>
                <a:cubicBezTo>
                  <a:pt x="1495" y="694"/>
                  <a:pt x="1574" y="655"/>
                  <a:pt x="1623" y="627"/>
                </a:cubicBezTo>
                <a:cubicBezTo>
                  <a:pt x="1672" y="599"/>
                  <a:pt x="1696" y="577"/>
                  <a:pt x="1731" y="549"/>
                </a:cubicBezTo>
                <a:cubicBezTo>
                  <a:pt x="1766" y="521"/>
                  <a:pt x="1799" y="488"/>
                  <a:pt x="1836" y="459"/>
                </a:cubicBezTo>
                <a:cubicBezTo>
                  <a:pt x="1873" y="430"/>
                  <a:pt x="1902" y="408"/>
                  <a:pt x="1953" y="378"/>
                </a:cubicBezTo>
                <a:cubicBezTo>
                  <a:pt x="2004" y="348"/>
                  <a:pt x="2075" y="309"/>
                  <a:pt x="2142" y="279"/>
                </a:cubicBezTo>
                <a:cubicBezTo>
                  <a:pt x="2209" y="249"/>
                  <a:pt x="2284" y="223"/>
                  <a:pt x="2358" y="198"/>
                </a:cubicBezTo>
                <a:cubicBezTo>
                  <a:pt x="2432" y="173"/>
                  <a:pt x="2506" y="149"/>
                  <a:pt x="2586" y="126"/>
                </a:cubicBezTo>
                <a:cubicBezTo>
                  <a:pt x="2666" y="103"/>
                  <a:pt x="2745" y="78"/>
                  <a:pt x="2838" y="60"/>
                </a:cubicBezTo>
                <a:cubicBezTo>
                  <a:pt x="2931" y="42"/>
                  <a:pt x="3023" y="25"/>
                  <a:pt x="3144" y="15"/>
                </a:cubicBezTo>
                <a:cubicBezTo>
                  <a:pt x="3265" y="5"/>
                  <a:pt x="3414" y="2"/>
                  <a:pt x="3564" y="0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27"/>
          <p:cNvSpPr/>
          <p:nvPr/>
        </p:nvSpPr>
        <p:spPr>
          <a:xfrm>
            <a:off x="463680" y="1957320"/>
            <a:ext cx="6091200" cy="987480"/>
          </a:xfrm>
          <a:custGeom>
            <a:avLst/>
            <a:gdLst>
              <a:gd name="textAreaLeft" fmla="*/ 0 w 6091200"/>
              <a:gd name="textAreaRight" fmla="*/ 6091560 w 609120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3552" h="760">
                <a:moveTo>
                  <a:pt x="0" y="756"/>
                </a:moveTo>
                <a:cubicBezTo>
                  <a:pt x="401" y="756"/>
                  <a:pt x="803" y="756"/>
                  <a:pt x="1065" y="756"/>
                </a:cubicBezTo>
                <a:cubicBezTo>
                  <a:pt x="1327" y="756"/>
                  <a:pt x="1459" y="760"/>
                  <a:pt x="1575" y="756"/>
                </a:cubicBezTo>
                <a:cubicBezTo>
                  <a:pt x="1691" y="752"/>
                  <a:pt x="1711" y="752"/>
                  <a:pt x="1761" y="729"/>
                </a:cubicBezTo>
                <a:cubicBezTo>
                  <a:pt x="1811" y="706"/>
                  <a:pt x="1831" y="668"/>
                  <a:pt x="1872" y="621"/>
                </a:cubicBezTo>
                <a:cubicBezTo>
                  <a:pt x="1913" y="574"/>
                  <a:pt x="1969" y="498"/>
                  <a:pt x="2010" y="447"/>
                </a:cubicBezTo>
                <a:cubicBezTo>
                  <a:pt x="2051" y="396"/>
                  <a:pt x="2070" y="359"/>
                  <a:pt x="2115" y="315"/>
                </a:cubicBezTo>
                <a:cubicBezTo>
                  <a:pt x="2160" y="271"/>
                  <a:pt x="2213" y="220"/>
                  <a:pt x="2283" y="183"/>
                </a:cubicBezTo>
                <a:cubicBezTo>
                  <a:pt x="2353" y="146"/>
                  <a:pt x="2425" y="120"/>
                  <a:pt x="2538" y="96"/>
                </a:cubicBezTo>
                <a:cubicBezTo>
                  <a:pt x="2651" y="72"/>
                  <a:pt x="2816" y="57"/>
                  <a:pt x="2961" y="42"/>
                </a:cubicBezTo>
                <a:cubicBezTo>
                  <a:pt x="3106" y="27"/>
                  <a:pt x="3313" y="12"/>
                  <a:pt x="3411" y="6"/>
                </a:cubicBezTo>
                <a:cubicBezTo>
                  <a:pt x="3509" y="0"/>
                  <a:pt x="3530" y="3"/>
                  <a:pt x="3552" y="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28"/>
          <p:cNvSpPr/>
          <p:nvPr/>
        </p:nvSpPr>
        <p:spPr>
          <a:xfrm flipH="1">
            <a:off x="457200" y="1574640"/>
            <a:ext cx="6480" cy="3584880"/>
          </a:xfrm>
          <a:custGeom>
            <a:avLst/>
            <a:gdLst>
              <a:gd name="textAreaLeft" fmla="*/ 360 w 6480"/>
              <a:gd name="textAreaRight" fmla="*/ 7200 w 6480"/>
              <a:gd name="textAreaTop" fmla="*/ 0 h 3584880"/>
              <a:gd name="textAreaBottom" fmla="*/ 3585240 h 3584880"/>
            </a:gdLst>
            <a:ahLst/>
            <a:rect l="textAreaLeft" t="textAreaTop" r="textAreaRight" b="textAreaBottom"/>
            <a:pathLst>
              <a:path w="6345" h="3584576">
                <a:moveTo>
                  <a:pt x="0" y="0"/>
                </a:moveTo>
                <a:lnTo>
                  <a:pt x="6345" y="35845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29"/>
          <p:cNvSpPr/>
          <p:nvPr/>
        </p:nvSpPr>
        <p:spPr>
          <a:xfrm>
            <a:off x="463680" y="1886040"/>
            <a:ext cx="6102360" cy="1055520"/>
          </a:xfrm>
          <a:custGeom>
            <a:avLst/>
            <a:gdLst>
              <a:gd name="textAreaLeft" fmla="*/ 0 w 6102360"/>
              <a:gd name="textAreaRight" fmla="*/ 6102720 w 610236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3558" h="811">
                <a:moveTo>
                  <a:pt x="0" y="811"/>
                </a:moveTo>
                <a:cubicBezTo>
                  <a:pt x="98" y="786"/>
                  <a:pt x="196" y="762"/>
                  <a:pt x="279" y="739"/>
                </a:cubicBezTo>
                <a:cubicBezTo>
                  <a:pt x="362" y="716"/>
                  <a:pt x="427" y="697"/>
                  <a:pt x="495" y="676"/>
                </a:cubicBezTo>
                <a:cubicBezTo>
                  <a:pt x="563" y="655"/>
                  <a:pt x="632" y="634"/>
                  <a:pt x="687" y="610"/>
                </a:cubicBezTo>
                <a:cubicBezTo>
                  <a:pt x="742" y="586"/>
                  <a:pt x="783" y="568"/>
                  <a:pt x="825" y="532"/>
                </a:cubicBezTo>
                <a:cubicBezTo>
                  <a:pt x="867" y="496"/>
                  <a:pt x="902" y="444"/>
                  <a:pt x="939" y="397"/>
                </a:cubicBezTo>
                <a:cubicBezTo>
                  <a:pt x="976" y="350"/>
                  <a:pt x="1011" y="290"/>
                  <a:pt x="1047" y="250"/>
                </a:cubicBezTo>
                <a:cubicBezTo>
                  <a:pt x="1083" y="210"/>
                  <a:pt x="1113" y="184"/>
                  <a:pt x="1155" y="157"/>
                </a:cubicBezTo>
                <a:cubicBezTo>
                  <a:pt x="1197" y="130"/>
                  <a:pt x="1242" y="104"/>
                  <a:pt x="1302" y="85"/>
                </a:cubicBezTo>
                <a:cubicBezTo>
                  <a:pt x="1362" y="66"/>
                  <a:pt x="1427" y="54"/>
                  <a:pt x="1518" y="43"/>
                </a:cubicBezTo>
                <a:cubicBezTo>
                  <a:pt x="1609" y="32"/>
                  <a:pt x="1711" y="25"/>
                  <a:pt x="1848" y="19"/>
                </a:cubicBezTo>
                <a:cubicBezTo>
                  <a:pt x="1985" y="13"/>
                  <a:pt x="2180" y="10"/>
                  <a:pt x="2340" y="7"/>
                </a:cubicBezTo>
                <a:cubicBezTo>
                  <a:pt x="2500" y="4"/>
                  <a:pt x="2605" y="2"/>
                  <a:pt x="2808" y="1"/>
                </a:cubicBezTo>
                <a:cubicBezTo>
                  <a:pt x="3011" y="0"/>
                  <a:pt x="3284" y="0"/>
                  <a:pt x="3558" y="1"/>
                </a:cubicBezTo>
              </a:path>
            </a:pathLst>
          </a:custGeom>
          <a:noFill/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30"/>
          <p:cNvSpPr/>
          <p:nvPr/>
        </p:nvSpPr>
        <p:spPr>
          <a:xfrm flipV="1">
            <a:off x="469800" y="5159160"/>
            <a:ext cx="8170920" cy="1440"/>
          </a:xfrm>
          <a:custGeom>
            <a:avLst/>
            <a:gdLst>
              <a:gd name="textAreaLeft" fmla="*/ 0 w 8170920"/>
              <a:gd name="textAreaRight" fmla="*/ 8171280 w 8170920"/>
              <a:gd name="textAreaTop" fmla="*/ 360 h 1440"/>
              <a:gd name="textAreaBottom" fmla="*/ 2160 h 1440"/>
            </a:gdLst>
            <a:ahLst/>
            <a:rect l="textAreaLeft" t="textAreaTop" r="textAreaRight" b="textAreaBottom"/>
            <a:pathLst>
              <a:path w="8170858" h="1591">
                <a:moveTo>
                  <a:pt x="0" y="0"/>
                </a:moveTo>
                <a:lnTo>
                  <a:pt x="8170858" y="159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31"/>
          <p:cNvSpPr/>
          <p:nvPr/>
        </p:nvSpPr>
        <p:spPr>
          <a:xfrm>
            <a:off x="504720" y="1762200"/>
            <a:ext cx="6027840" cy="1150920"/>
          </a:xfrm>
          <a:custGeom>
            <a:avLst/>
            <a:gdLst>
              <a:gd name="textAreaLeft" fmla="*/ 0 w 6027840"/>
              <a:gd name="textAreaRight" fmla="*/ 6028200 w 602784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12" h="592">
                <a:moveTo>
                  <a:pt x="0" y="592"/>
                </a:moveTo>
                <a:cubicBezTo>
                  <a:pt x="104" y="564"/>
                  <a:pt x="208" y="536"/>
                  <a:pt x="336" y="448"/>
                </a:cubicBezTo>
                <a:cubicBezTo>
                  <a:pt x="464" y="360"/>
                  <a:pt x="608" y="128"/>
                  <a:pt x="768" y="64"/>
                </a:cubicBezTo>
                <a:cubicBezTo>
                  <a:pt x="928" y="0"/>
                  <a:pt x="1144" y="8"/>
                  <a:pt x="1296" y="64"/>
                </a:cubicBezTo>
                <a:cubicBezTo>
                  <a:pt x="1448" y="120"/>
                  <a:pt x="1544" y="312"/>
                  <a:pt x="1680" y="400"/>
                </a:cubicBezTo>
                <a:cubicBezTo>
                  <a:pt x="1816" y="488"/>
                  <a:pt x="2048" y="560"/>
                  <a:pt x="2112" y="592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AutoShape 35"/>
          <p:cNvSpPr/>
          <p:nvPr/>
        </p:nvSpPr>
        <p:spPr>
          <a:xfrm>
            <a:off x="1646280" y="4730760"/>
            <a:ext cx="6950160" cy="3888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envolvimento de Complicação Macrovascula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31"/>
          <p:cNvGrpSpPr/>
          <p:nvPr/>
        </p:nvGrpSpPr>
        <p:grpSpPr>
          <a:xfrm>
            <a:off x="2976480" y="4484520"/>
            <a:ext cx="5619960" cy="408240"/>
            <a:chOff x="2976480" y="4484520"/>
            <a:chExt cx="5619960" cy="408240"/>
          </a:xfrm>
        </p:grpSpPr>
        <p:sp>
          <p:nvSpPr>
            <p:cNvPr id="210" name="AutoShape 33"/>
            <p:cNvSpPr/>
            <p:nvPr/>
          </p:nvSpPr>
          <p:spPr>
            <a:xfrm>
              <a:off x="3428640" y="4484520"/>
              <a:ext cx="5167800" cy="408240"/>
            </a:xfrm>
            <a:prstGeom prst="pi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senvolvimento de  Complicação Microvascula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3"/>
            <p:cNvSpPr/>
            <p:nvPr/>
          </p:nvSpPr>
          <p:spPr>
            <a:xfrm>
              <a:off x="2976480" y="4586040"/>
              <a:ext cx="457200" cy="2066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Text Box 35"/>
          <p:cNvSpPr/>
          <p:nvPr/>
        </p:nvSpPr>
        <p:spPr>
          <a:xfrm>
            <a:off x="4000320" y="6576840"/>
            <a:ext cx="486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Adaptado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amlo-Halsted BA, Edelman S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rimary Care. 1999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26: 771–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abetes mellitus: quadro clín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Sintomas decorrentes da hiperglic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oliúria / polidipsia / polifa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agrecimen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ad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urvação visu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endência a infecçõ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ndidíase vaginal /balanopost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fecções cutâneas / dificuldade de cicatriza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etoacidose diab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índrome hiperglicêmica-hiperosmo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Sintomas decorrentes de complicações associadas ao diabe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2372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omplicações microvasculare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europat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r, parestesia e úlceras  em mm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efropat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dema , hipertens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tinopat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rda de acuidade vis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ixaDeTexto 5"/>
          <p:cNvSpPr/>
          <p:nvPr/>
        </p:nvSpPr>
        <p:spPr>
          <a:xfrm>
            <a:off x="4781520" y="6608880"/>
            <a:ext cx="43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ttp://library.med.utah.edu/WebPath/ENDOHTML/ENDO034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m 6" descr="ilhotas nls.jpg"/>
          <p:cNvPicPr/>
          <p:nvPr/>
        </p:nvPicPr>
        <p:blipFill>
          <a:blip r:embed="rId1"/>
          <a:stretch/>
        </p:blipFill>
        <p:spPr>
          <a:xfrm>
            <a:off x="108000" y="1700280"/>
            <a:ext cx="4221000" cy="2773440"/>
          </a:xfrm>
          <a:prstGeom prst="rect">
            <a:avLst/>
          </a:prstGeom>
          <a:ln w="0">
            <a:noFill/>
          </a:ln>
        </p:spPr>
      </p:pic>
      <p:pic>
        <p:nvPicPr>
          <p:cNvPr id="59" name="Imagem 7" descr="cels beta e alfa.jpg"/>
          <p:cNvPicPr/>
          <p:nvPr/>
        </p:nvPicPr>
        <p:blipFill>
          <a:blip r:embed="rId2"/>
          <a:stretch/>
        </p:blipFill>
        <p:spPr>
          <a:xfrm>
            <a:off x="4788000" y="1743120"/>
            <a:ext cx="4221000" cy="2771640"/>
          </a:xfrm>
          <a:prstGeom prst="rect">
            <a:avLst/>
          </a:prstGeom>
          <a:ln w="0">
            <a:noFill/>
          </a:ln>
        </p:spPr>
      </p:pic>
      <p:sp>
        <p:nvSpPr>
          <p:cNvPr id="60" name="CaixaDeTexto 8"/>
          <p:cNvSpPr/>
          <p:nvPr/>
        </p:nvSpPr>
        <p:spPr>
          <a:xfrm>
            <a:off x="179280" y="4508640"/>
            <a:ext cx="421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lhota de Langerhans  normal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ercado por tecido pancreático exócrina norm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s ilhotas contêm célula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lfa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lucagon),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beta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insulina) e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delta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somatostatina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4854960" y="4581360"/>
            <a:ext cx="2594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oloração com imunoperoxidas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direita: células be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esquerda: células alf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Ilhota de Langerh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abetes assintomá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ais comum no DM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daptação à hiperglic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agnóstic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Critérios para diagnóstico de 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Tabela 3" descr=""/>
          <p:cNvPicPr/>
          <p:nvPr/>
        </p:nvPicPr>
        <p:blipFill>
          <a:blip r:embed="rId1"/>
          <a:stretch/>
        </p:blipFill>
        <p:spPr>
          <a:xfrm>
            <a:off x="339840" y="1557360"/>
            <a:ext cx="8464320" cy="2600280"/>
          </a:xfrm>
          <a:prstGeom prst="rect">
            <a:avLst/>
          </a:prstGeom>
          <a:ln w="0">
            <a:noFill/>
          </a:ln>
        </p:spPr>
      </p:pic>
      <p:sp>
        <p:nvSpPr>
          <p:cNvPr id="225" name="CaixaDeTexto 4"/>
          <p:cNvSpPr/>
          <p:nvPr/>
        </p:nvSpPr>
        <p:spPr>
          <a:xfrm>
            <a:off x="305280" y="4191120"/>
            <a:ext cx="553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* Na ausência de hiperglicemia inequívoca, resultado deve ser confirm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CaixaDeTexto 5"/>
          <p:cNvSpPr/>
          <p:nvPr/>
        </p:nvSpPr>
        <p:spPr>
          <a:xfrm>
            <a:off x="7175520" y="639756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abetes Care, jan.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Categorias de risco aumentado para diabetes (pré-diabet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Tabela 5" descr=""/>
          <p:cNvPicPr/>
          <p:nvPr/>
        </p:nvPicPr>
        <p:blipFill>
          <a:blip r:embed="rId1"/>
          <a:stretch/>
        </p:blipFill>
        <p:spPr>
          <a:xfrm>
            <a:off x="217440" y="2349360"/>
            <a:ext cx="8747280" cy="2926080"/>
          </a:xfrm>
          <a:prstGeom prst="rect">
            <a:avLst/>
          </a:prstGeom>
          <a:ln w="0">
            <a:noFill/>
          </a:ln>
        </p:spPr>
      </p:pic>
      <p:sp>
        <p:nvSpPr>
          <p:cNvPr id="229" name="CaixaDeTexto 4"/>
          <p:cNvSpPr/>
          <p:nvPr/>
        </p:nvSpPr>
        <p:spPr>
          <a:xfrm>
            <a:off x="7175520" y="639756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abetes Care, jan.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Critérios para investigar diabetes em indivíduos assintomátic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dultos + sobrepeso (IMC ≥25Kg/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alibri"/>
              </a:rPr>
              <a:t>2*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) + 2 critér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edentá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arente de primeiro grau com D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iabetes gestacional ou mulheres com RN macrossômicos (&gt; 4 k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DL &lt; 35 mg/dL  e/ou TGL &gt; 250 mg/dL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OP</a:t>
            </a: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bA1c≥5,7%, intolerância a glicose, glicemia de jejum alter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istória de DC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sência dos critérios acim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iciar investigação acima dos 45 anos de id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sultados normais: repetir a cada 3 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pendendo do resultado inicial (pré-diabetes) e fatores de ris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CaixaDeTexto 5"/>
          <p:cNvSpPr/>
          <p:nvPr/>
        </p:nvSpPr>
        <p:spPr>
          <a:xfrm>
            <a:off x="7175520" y="639756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abetes Care, jan.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Complicações agu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Cetoacidose diab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Estado hiperosmolar-hiperglicêmic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hipoglic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Cetoacidose diabé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Espaço Reservado para Conteúdo 3" descr=""/>
          <p:cNvPicPr/>
          <p:nvPr/>
        </p:nvPicPr>
        <p:blipFill>
          <a:blip r:embed="rId1"/>
          <a:stretch/>
        </p:blipFill>
        <p:spPr>
          <a:xfrm>
            <a:off x="558720" y="1305000"/>
            <a:ext cx="8026560" cy="5508720"/>
          </a:xfrm>
          <a:prstGeom prst="rect">
            <a:avLst/>
          </a:prstGeom>
          <a:ln w="0">
            <a:noFill/>
          </a:ln>
        </p:spPr>
      </p:pic>
      <p:sp>
        <p:nvSpPr>
          <p:cNvPr id="238" name="Retângulo 4"/>
          <p:cNvSpPr/>
          <p:nvPr/>
        </p:nvSpPr>
        <p:spPr>
          <a:xfrm>
            <a:off x="6948360" y="2706840"/>
            <a:ext cx="1584360" cy="105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CaixaDeTexto 5"/>
          <p:cNvSpPr/>
          <p:nvPr/>
        </p:nvSpPr>
        <p:spPr>
          <a:xfrm>
            <a:off x="3200400" y="228600"/>
            <a:ext cx="2674800" cy="337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Fatores desencadean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CaixaDeTexto 6"/>
          <p:cNvSpPr/>
          <p:nvPr/>
        </p:nvSpPr>
        <p:spPr>
          <a:xfrm>
            <a:off x="539640" y="934920"/>
            <a:ext cx="1060560" cy="337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estres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aixaDeTexto 7"/>
          <p:cNvSpPr/>
          <p:nvPr/>
        </p:nvSpPr>
        <p:spPr>
          <a:xfrm>
            <a:off x="3643200" y="868320"/>
            <a:ext cx="2605320" cy="337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Transgressão aliment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CaixaDeTexto 8"/>
          <p:cNvSpPr/>
          <p:nvPr/>
        </p:nvSpPr>
        <p:spPr>
          <a:xfrm>
            <a:off x="6629400" y="957240"/>
            <a:ext cx="2209680" cy="580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Omissão de insuli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Conector angulado 12"/>
          <p:cNvCxnSpPr>
            <a:stCxn id="239" idx="2"/>
            <a:endCxn id="241" idx="0"/>
          </p:cNvCxnSpPr>
          <p:nvPr/>
        </p:nvCxnSpPr>
        <p:spPr>
          <a:xfrm flipH="1" rot="16200000">
            <a:off x="4591800" y="513000"/>
            <a:ext cx="302400" cy="408960"/>
          </a:xfrm>
          <a:prstGeom prst="bentConnector3">
            <a:avLst>
              <a:gd name="adj1" fmla="val 4994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Conector angulado 14"/>
          <p:cNvCxnSpPr>
            <a:stCxn id="239" idx="2"/>
            <a:endCxn id="242" idx="0"/>
          </p:cNvCxnSpPr>
          <p:nvPr/>
        </p:nvCxnSpPr>
        <p:spPr>
          <a:xfrm flipH="1" rot="16200000">
            <a:off x="5940000" y="-836280"/>
            <a:ext cx="391320" cy="319644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Conector angulado 16"/>
          <p:cNvCxnSpPr>
            <a:stCxn id="239" idx="2"/>
            <a:endCxn id="240" idx="0"/>
          </p:cNvCxnSpPr>
          <p:nvPr/>
        </p:nvCxnSpPr>
        <p:spPr>
          <a:xfrm rot="5400000">
            <a:off x="2619360" y="-983880"/>
            <a:ext cx="369000" cy="34693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Cetoacidose diabé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Quadro clínic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oliúria, polidipsia, perda de pe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raque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urvação vis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spiração acidótica (Kussmau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or abdominal (crianças), náusea e vômi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Hipoter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fusão mental, torp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a (10% dos cas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Cetoacidose diabé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Espaço Reservado para Conteúdo 3"/>
          <p:cNvGrpSpPr/>
          <p:nvPr/>
        </p:nvGrpSpPr>
        <p:grpSpPr>
          <a:xfrm>
            <a:off x="923760" y="1197000"/>
            <a:ext cx="7296480" cy="5456160"/>
            <a:chOff x="923760" y="1197000"/>
            <a:chExt cx="7296480" cy="5456160"/>
          </a:xfrm>
        </p:grpSpPr>
        <p:sp>
          <p:nvSpPr>
            <p:cNvPr id="250" name="Forma livre 3"/>
            <p:cNvSpPr/>
            <p:nvPr/>
          </p:nvSpPr>
          <p:spPr>
            <a:xfrm>
              <a:off x="5029560" y="2973240"/>
              <a:ext cx="1892880" cy="202644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8200" rIns="358200" tIns="379800" bIns="379800" anchor="ctr">
              <a:noAutofit/>
            </a:bodyPr>
            <a:p>
              <a:pPr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Na: nl ou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↓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: nl ou ↑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sometria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 baix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carbonato ↓↓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tângulo 4"/>
            <p:cNvSpPr/>
            <p:nvPr/>
          </p:nvSpPr>
          <p:spPr>
            <a:xfrm>
              <a:off x="5958360" y="1605240"/>
              <a:ext cx="2261880" cy="12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orma livre 5"/>
            <p:cNvSpPr/>
            <p:nvPr/>
          </p:nvSpPr>
          <p:spPr>
            <a:xfrm>
              <a:off x="2221560" y="4626720"/>
              <a:ext cx="1763280" cy="2026440"/>
            </a:xfrm>
            <a:prstGeom prst="pie">
              <a:avLst/>
            </a:prstGeom>
            <a:solidFill>
              <a:srgbClr val="5fb6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4680" rIns="274680" tIns="315720" bIns="31572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Tratar fator desencadean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orma livre 6"/>
            <p:cNvSpPr/>
            <p:nvPr/>
          </p:nvSpPr>
          <p:spPr>
            <a:xfrm>
              <a:off x="4049640" y="1232280"/>
              <a:ext cx="1763280" cy="2026440"/>
            </a:xfrm>
            <a:prstGeom prst="pie">
              <a:avLst/>
            </a:prstGeom>
            <a:solidFill>
              <a:srgbClr val="5db18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7960" rIns="327960" tIns="369000" bIns="36900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Glicemi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etonemi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tângulo 7"/>
            <p:cNvSpPr/>
            <p:nvPr/>
          </p:nvSpPr>
          <p:spPr>
            <a:xfrm>
              <a:off x="923760" y="3325320"/>
              <a:ext cx="2188800" cy="12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orma livre 8"/>
            <p:cNvSpPr/>
            <p:nvPr/>
          </p:nvSpPr>
          <p:spPr>
            <a:xfrm>
              <a:off x="3179160" y="2973240"/>
              <a:ext cx="1763280" cy="2026440"/>
            </a:xfrm>
            <a:prstGeom prst="pie">
              <a:avLst/>
            </a:prstGeom>
            <a:solidFill>
              <a:srgbClr val="5f9da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4680" rIns="274680" tIns="315720" bIns="31572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1776240"/>
                  <a:tab algn="l" pos="3552840"/>
                  <a:tab algn="l" pos="5329080"/>
                  <a:tab algn="l" pos="7105680"/>
                  <a:tab algn="l" pos="8881920"/>
                  <a:tab algn="l" pos="1065852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orma livre 9"/>
            <p:cNvSpPr/>
            <p:nvPr/>
          </p:nvSpPr>
          <p:spPr>
            <a:xfrm>
              <a:off x="2221560" y="1197000"/>
              <a:ext cx="1763280" cy="2026440"/>
            </a:xfrm>
            <a:prstGeom prst="pie">
              <a:avLst/>
            </a:prstGeom>
            <a:solidFill>
              <a:srgbClr val="626ea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7960" rIns="327960" tIns="369000" bIns="36900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Quadro clínic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tângulo 10"/>
            <p:cNvSpPr/>
            <p:nvPr/>
          </p:nvSpPr>
          <p:spPr>
            <a:xfrm>
              <a:off x="5958360" y="5045400"/>
              <a:ext cx="2261880" cy="12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orma livre 11"/>
            <p:cNvSpPr/>
            <p:nvPr/>
          </p:nvSpPr>
          <p:spPr>
            <a:xfrm>
              <a:off x="4136760" y="4626720"/>
              <a:ext cx="1763280" cy="202644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4680" rIns="274680" tIns="315720" bIns="31572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Reposição hídrica e de eletrólito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insulinização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Secreção de insul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E:\Dropbox\insulina aula\insulin-secretion-w500.jpg"/>
          <p:cNvPicPr/>
          <p:nvPr/>
        </p:nvPicPr>
        <p:blipFill>
          <a:blip r:embed="rId1"/>
          <a:stretch/>
        </p:blipFill>
        <p:spPr>
          <a:xfrm>
            <a:off x="2124000" y="1197000"/>
            <a:ext cx="4824360" cy="4824360"/>
          </a:xfrm>
          <a:prstGeom prst="rect">
            <a:avLst/>
          </a:prstGeom>
          <a:ln w="0">
            <a:noFill/>
          </a:ln>
        </p:spPr>
      </p:pic>
      <p:sp>
        <p:nvSpPr>
          <p:cNvPr id="65" name="CaixaDeTexto 7"/>
          <p:cNvSpPr/>
          <p:nvPr/>
        </p:nvSpPr>
        <p:spPr>
          <a:xfrm>
            <a:off x="6126120" y="65721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orsman, P. Diabetologia. 2003;46:1029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Estado hiperosmolar-hiperglicêmic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Estado hiperosmolar-hiperglicêmic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+ comum no DM 2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creção residual de insu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suficiente para bloquear a produção hepática de glic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paz de bloquear a lipól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tado catabólico caracterizado por hiperglicemia e desidratação extre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licemia &gt; 600 mg/d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Osm &gt; 320 mmol/k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etonúria: fraca &lt;+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baixamento do nível de consciê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etoacidose x Estado hiperosmolar-hiperglicêmico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Group 88" descr=""/>
          <p:cNvPicPr/>
          <p:nvPr/>
        </p:nvPicPr>
        <p:blipFill>
          <a:blip r:embed="rId1"/>
          <a:stretch/>
        </p:blipFill>
        <p:spPr>
          <a:xfrm>
            <a:off x="179280" y="112392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Hipoglic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ta para baixo 1"/>
          <p:cNvSpPr/>
          <p:nvPr/>
        </p:nvSpPr>
        <p:spPr>
          <a:xfrm>
            <a:off x="334800" y="1469880"/>
            <a:ext cx="1789200" cy="5113440"/>
          </a:xfrm>
          <a:custGeom>
            <a:avLst/>
            <a:gdLst>
              <a:gd name="textAreaLeft" fmla="*/ 447120 w 1789200"/>
              <a:gd name="textAreaRight" fmla="*/ 1342080 w 1789200"/>
              <a:gd name="textAreaTop" fmla="*/ 0 h 5113440"/>
              <a:gd name="textAreaBottom" fmla="*/ 4666320 h 5113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17822"/>
                </a:lnTo>
                <a:lnTo>
                  <a:pt x="0" y="17822"/>
                </a:lnTo>
                <a:lnTo>
                  <a:pt x="10800" y="21600"/>
                </a:lnTo>
                <a:lnTo>
                  <a:pt x="21600" y="17822"/>
                </a:lnTo>
                <a:lnTo>
                  <a:pt x="16200" y="17822"/>
                </a:lnTo>
                <a:lnTo>
                  <a:pt x="16200" y="0"/>
                </a:lnTo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a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7358040" y="4264200"/>
            <a:ext cx="1549440" cy="990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poglic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2994840" y="213372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beração horm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307280" y="1557360"/>
            <a:ext cx="1585800" cy="116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lucag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renali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ormônio d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escimen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Line 8"/>
          <p:cNvSpPr/>
          <p:nvPr/>
        </p:nvSpPr>
        <p:spPr>
          <a:xfrm flipH="1">
            <a:off x="1662840" y="2406600"/>
            <a:ext cx="1109880" cy="360"/>
          </a:xfrm>
          <a:custGeom>
            <a:avLst/>
            <a:gdLst/>
            <a:ahLst/>
            <a:rect l="l" t="t" r="r" b="b"/>
            <a:pathLst>
              <a:path w="1109660" h="0">
                <a:moveTo>
                  <a:pt x="0" y="0"/>
                </a:moveTo>
                <a:lnTo>
                  <a:pt x="1109660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3035160" y="328464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tomas adrenérg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7280280" y="2865600"/>
            <a:ext cx="1608120" cy="131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rem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nsieda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alpitaç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udore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Fo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903240" y="1557360"/>
            <a:ext cx="5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903240" y="2577960"/>
            <a:ext cx="59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917280" y="4471920"/>
            <a:ext cx="59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2890800" y="414828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tomas neuroglicopên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19"/>
          <p:cNvSpPr/>
          <p:nvPr/>
        </p:nvSpPr>
        <p:spPr>
          <a:xfrm>
            <a:off x="7403760" y="4292640"/>
            <a:ext cx="1419840" cy="79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Visão tur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ncoordenaçã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lterção hum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3025440" y="527688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ulsões, co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2"/>
          <p:cNvSpPr/>
          <p:nvPr/>
        </p:nvSpPr>
        <p:spPr>
          <a:xfrm>
            <a:off x="345240" y="105264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licemia (mg/d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Line 25"/>
          <p:cNvSpPr/>
          <p:nvPr/>
        </p:nvSpPr>
        <p:spPr>
          <a:xfrm flipH="1">
            <a:off x="1676520" y="3573360"/>
            <a:ext cx="1109520" cy="360"/>
          </a:xfrm>
          <a:custGeom>
            <a:avLst/>
            <a:gdLst/>
            <a:ahLst/>
            <a:rect l="l" t="t" r="r" b="b"/>
            <a:pathLst>
              <a:path w="1109660" h="0">
                <a:moveTo>
                  <a:pt x="0" y="0"/>
                </a:moveTo>
                <a:lnTo>
                  <a:pt x="1109660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Line 27"/>
          <p:cNvSpPr/>
          <p:nvPr/>
        </p:nvSpPr>
        <p:spPr>
          <a:xfrm flipH="1">
            <a:off x="1689120" y="4508640"/>
            <a:ext cx="1109520" cy="360"/>
          </a:xfrm>
          <a:custGeom>
            <a:avLst/>
            <a:gdLst/>
            <a:ahLst/>
            <a:rect l="l" t="t" r="r" b="b"/>
            <a:pathLst>
              <a:path w="1109660" h="0">
                <a:moveTo>
                  <a:pt x="0" y="0"/>
                </a:moveTo>
                <a:lnTo>
                  <a:pt x="1109660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28"/>
          <p:cNvSpPr/>
          <p:nvPr/>
        </p:nvSpPr>
        <p:spPr>
          <a:xfrm>
            <a:off x="5945040" y="2349360"/>
            <a:ext cx="876600" cy="360"/>
          </a:xfrm>
          <a:custGeom>
            <a:avLst/>
            <a:gdLst/>
            <a:ahLst/>
            <a:rect l="l" t="t" r="r" b="b"/>
            <a:pathLst>
              <a:path w="876296" h="0">
                <a:moveTo>
                  <a:pt x="0" y="0"/>
                </a:moveTo>
                <a:lnTo>
                  <a:pt x="876296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Line 29"/>
          <p:cNvSpPr/>
          <p:nvPr/>
        </p:nvSpPr>
        <p:spPr>
          <a:xfrm flipH="1">
            <a:off x="1662840" y="5445000"/>
            <a:ext cx="1109880" cy="360"/>
          </a:xfrm>
          <a:custGeom>
            <a:avLst/>
            <a:gdLst/>
            <a:ahLst/>
            <a:rect l="l" t="t" r="r" b="b"/>
            <a:pathLst>
              <a:path w="1109660" h="0">
                <a:moveTo>
                  <a:pt x="0" y="0"/>
                </a:moveTo>
                <a:lnTo>
                  <a:pt x="1109660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8"/>
          <p:cNvSpPr/>
          <p:nvPr/>
        </p:nvSpPr>
        <p:spPr>
          <a:xfrm>
            <a:off x="6097680" y="3557520"/>
            <a:ext cx="876240" cy="360"/>
          </a:xfrm>
          <a:custGeom>
            <a:avLst/>
            <a:gdLst/>
            <a:ahLst/>
            <a:rect l="l" t="t" r="r" b="b"/>
            <a:pathLst>
              <a:path w="876296" h="0">
                <a:moveTo>
                  <a:pt x="0" y="0"/>
                </a:moveTo>
                <a:lnTo>
                  <a:pt x="876296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Conector angulado 3"/>
          <p:cNvCxnSpPr>
            <a:stCxn id="278" idx="3"/>
            <a:endCxn id="268" idx="1"/>
          </p:cNvCxnSpPr>
          <p:nvPr/>
        </p:nvCxnSpPr>
        <p:spPr>
          <a:xfrm>
            <a:off x="6553080" y="4379760"/>
            <a:ext cx="805680" cy="38016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CaixaDeTexto 4"/>
          <p:cNvSpPr/>
          <p:nvPr/>
        </p:nvSpPr>
        <p:spPr>
          <a:xfrm>
            <a:off x="1270080" y="6443640"/>
            <a:ext cx="77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atores desencadeantes: erro alimentar, erro de dose, insuficiência re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Complicações crôn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Complicações associadas ao 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Grupo 9"/>
          <p:cNvGrpSpPr/>
          <p:nvPr/>
        </p:nvGrpSpPr>
        <p:grpSpPr>
          <a:xfrm>
            <a:off x="2266920" y="981000"/>
            <a:ext cx="5688000" cy="4967280"/>
            <a:chOff x="2266920" y="981000"/>
            <a:chExt cx="5688000" cy="4967280"/>
          </a:xfrm>
        </p:grpSpPr>
        <p:pic>
          <p:nvPicPr>
            <p:cNvPr id="293" name="Imagem 2" descr="complicações dm 1.gif"/>
            <p:cNvPicPr/>
            <p:nvPr/>
          </p:nvPicPr>
          <p:blipFill>
            <a:blip r:embed="rId1"/>
            <a:stretch/>
          </p:blipFill>
          <p:spPr>
            <a:xfrm>
              <a:off x="2266920" y="981000"/>
              <a:ext cx="4073040" cy="49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CaixaDeTexto 3"/>
            <p:cNvSpPr/>
            <p:nvPr/>
          </p:nvSpPr>
          <p:spPr>
            <a:xfrm>
              <a:off x="4868280" y="1206000"/>
              <a:ext cx="2635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Acidente vascular cerebr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CaixaDeTexto 4"/>
            <p:cNvSpPr/>
            <p:nvPr/>
          </p:nvSpPr>
          <p:spPr>
            <a:xfrm>
              <a:off x="4864320" y="1773000"/>
              <a:ext cx="1255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Retinopati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CaixaDeTexto 5"/>
            <p:cNvSpPr/>
            <p:nvPr/>
          </p:nvSpPr>
          <p:spPr>
            <a:xfrm>
              <a:off x="4870440" y="2349000"/>
              <a:ext cx="272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Infarto agudo do miocárdi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CaixaDeTexto 6"/>
            <p:cNvSpPr/>
            <p:nvPr/>
          </p:nvSpPr>
          <p:spPr>
            <a:xfrm>
              <a:off x="4860000" y="2997000"/>
              <a:ext cx="1368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Nefropati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CaixaDeTexto 7"/>
            <p:cNvSpPr/>
            <p:nvPr/>
          </p:nvSpPr>
          <p:spPr>
            <a:xfrm>
              <a:off x="4860000" y="3471120"/>
              <a:ext cx="18810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Impotência sexu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Disfunção vesic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CaixaDeTexto 8"/>
            <p:cNvSpPr/>
            <p:nvPr/>
          </p:nvSpPr>
          <p:spPr>
            <a:xfrm>
              <a:off x="4874040" y="4869000"/>
              <a:ext cx="30808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Parestesia/ anestesi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Insuficiência vascular perifér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3"/>
          <p:cNvSpPr/>
          <p:nvPr/>
        </p:nvSpPr>
        <p:spPr>
          <a:xfrm>
            <a:off x="179280" y="5502240"/>
            <a:ext cx="73152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Determinan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Duração do diabetes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Tabagism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Grau de controle metabólico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tilism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usceptibilidade genética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Hipertensão arter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628560" y="609480"/>
            <a:ext cx="7748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Retinopatia Diabé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76320" y="1930320"/>
            <a:ext cx="2368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Não prolifera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8900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icroaneurism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8900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icrohemorrag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2662200" y="1930320"/>
            <a:ext cx="26384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indent="18900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ré-prolifera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8900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xsudat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8900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lterações veno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5443560" y="1930320"/>
            <a:ext cx="305748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rolifer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Neovasculariz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Hemorragia vít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Descolamento de ret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2209680" y="2209680"/>
            <a:ext cx="422280" cy="360"/>
          </a:xfrm>
          <a:custGeom>
            <a:avLst/>
            <a:gdLst/>
            <a:ahLst/>
            <a:rect l="l" t="t" r="r" b="b"/>
            <a:pathLst>
              <a:path w="422279" h="0">
                <a:moveTo>
                  <a:pt x="0" y="0"/>
                </a:moveTo>
                <a:lnTo>
                  <a:pt x="422279" y="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4865760" y="2209680"/>
            <a:ext cx="569880" cy="360"/>
          </a:xfrm>
          <a:custGeom>
            <a:avLst/>
            <a:gdLst/>
            <a:ahLst/>
            <a:rect l="l" t="t" r="r" b="b"/>
            <a:pathLst>
              <a:path w="569908" h="0">
                <a:moveTo>
                  <a:pt x="0" y="0"/>
                </a:moveTo>
                <a:lnTo>
                  <a:pt x="569908" y="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2571840" y="3878280"/>
            <a:ext cx="26384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dema de mác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0" y="4684680"/>
            <a:ext cx="1824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isão norm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2286000" y="4714920"/>
            <a:ext cx="2403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isão normal ou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5286240" y="4714920"/>
            <a:ext cx="1405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is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1785960" y="4929120"/>
            <a:ext cx="560520" cy="360"/>
          </a:xfrm>
          <a:custGeom>
            <a:avLst/>
            <a:gdLst/>
            <a:ahLst/>
            <a:rect l="l" t="t" r="r" b="b"/>
            <a:pathLst>
              <a:path w="560390" h="0">
                <a:moveTo>
                  <a:pt x="0" y="0"/>
                </a:moveTo>
                <a:lnTo>
                  <a:pt x="560390" y="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4714920" y="4929120"/>
            <a:ext cx="560520" cy="360"/>
          </a:xfrm>
          <a:custGeom>
            <a:avLst/>
            <a:gdLst/>
            <a:ahLst/>
            <a:rect l="l" t="t" r="r" b="b"/>
            <a:pathLst>
              <a:path w="560390" h="0">
                <a:moveTo>
                  <a:pt x="0" y="0"/>
                </a:moveTo>
                <a:lnTo>
                  <a:pt x="560390" y="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Line 20"/>
          <p:cNvSpPr/>
          <p:nvPr/>
        </p:nvSpPr>
        <p:spPr>
          <a:xfrm>
            <a:off x="6788160" y="4929120"/>
            <a:ext cx="560520" cy="360"/>
          </a:xfrm>
          <a:custGeom>
            <a:avLst/>
            <a:gdLst/>
            <a:ahLst/>
            <a:rect l="l" t="t" r="r" b="b"/>
            <a:pathLst>
              <a:path w="560390" h="0">
                <a:moveTo>
                  <a:pt x="0" y="0"/>
                </a:moveTo>
                <a:lnTo>
                  <a:pt x="560390" y="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23"/>
          <p:cNvSpPr/>
          <p:nvPr/>
        </p:nvSpPr>
        <p:spPr>
          <a:xfrm>
            <a:off x="7180200" y="2124000"/>
            <a:ext cx="1467000" cy="360"/>
          </a:xfrm>
          <a:custGeom>
            <a:avLst/>
            <a:gdLst/>
            <a:ahLst/>
            <a:rect l="l" t="t" r="r" b="b"/>
            <a:pathLst>
              <a:path w="1466853" h="0">
                <a:moveTo>
                  <a:pt x="0" y="0"/>
                </a:moveTo>
                <a:lnTo>
                  <a:pt x="1466853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24"/>
          <p:cNvSpPr/>
          <p:nvPr/>
        </p:nvSpPr>
        <p:spPr>
          <a:xfrm>
            <a:off x="8659800" y="2109960"/>
            <a:ext cx="27000" cy="2541240"/>
          </a:xfrm>
          <a:custGeom>
            <a:avLst/>
            <a:gdLst>
              <a:gd name="textAreaLeft" fmla="*/ 0 w 27000"/>
              <a:gd name="textAreaRight" fmla="*/ 27360 w 27000"/>
              <a:gd name="textAreaTop" fmla="*/ 0 h 2541240"/>
              <a:gd name="textAreaBottom" fmla="*/ 2541600 h 2541240"/>
            </a:gdLst>
            <a:ahLst/>
            <a:rect l="textAreaLeft" t="textAreaTop" r="textAreaRight" b="textAreaBottom"/>
            <a:pathLst>
              <a:path w="26983" h="2541583">
                <a:moveTo>
                  <a:pt x="0" y="0"/>
                </a:moveTo>
                <a:lnTo>
                  <a:pt x="26983" y="254158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25"/>
          <p:cNvSpPr/>
          <p:nvPr/>
        </p:nvSpPr>
        <p:spPr>
          <a:xfrm>
            <a:off x="4881600" y="4075200"/>
            <a:ext cx="3564000" cy="360"/>
          </a:xfrm>
          <a:custGeom>
            <a:avLst/>
            <a:gdLst/>
            <a:ahLst/>
            <a:rect l="l" t="t" r="r" b="b"/>
            <a:pathLst>
              <a:path w="3563938" h="0">
                <a:moveTo>
                  <a:pt x="0" y="0"/>
                </a:moveTo>
                <a:lnTo>
                  <a:pt x="3563938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27"/>
          <p:cNvSpPr/>
          <p:nvPr/>
        </p:nvSpPr>
        <p:spPr>
          <a:xfrm>
            <a:off x="8445600" y="4075200"/>
            <a:ext cx="360" cy="509400"/>
          </a:xfrm>
          <a:custGeom>
            <a:avLst/>
            <a:gdLst/>
            <a:ahLst/>
            <a:rect l="l" t="t" r="r" b="b"/>
            <a:pathLst>
              <a:path w="0" h="509585">
                <a:moveTo>
                  <a:pt x="0" y="0"/>
                </a:moveTo>
                <a:lnTo>
                  <a:pt x="1" y="509585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CaixaDeTexto 1"/>
          <p:cNvSpPr/>
          <p:nvPr/>
        </p:nvSpPr>
        <p:spPr>
          <a:xfrm>
            <a:off x="7546680" y="472428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maur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Espaço Reservado para Conteúdo 3" descr=""/>
          <p:cNvPicPr/>
          <p:nvPr/>
        </p:nvPicPr>
        <p:blipFill>
          <a:blip r:embed="rId1"/>
          <a:stretch/>
        </p:blipFill>
        <p:spPr>
          <a:xfrm>
            <a:off x="900000" y="1297080"/>
            <a:ext cx="7532640" cy="14842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899640" y="2924280"/>
            <a:ext cx="7272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mostra isolad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osar creatinina urinária / Boa correlação / Custo-efe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vita falso-positivo/nega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Por concentração / diluição da amost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siderar 2 de 3 amos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3 a 6 me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vi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xercício físico: 24 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fecção / Fe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scompensação aguda D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rise hipertensiva /IC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Classificação Doença Renal Crôn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Neuropatia diabé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Definiçã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Presença de sintomas ou sinais de disfunção do nervo periférico em pessoas com diabetes, após a exclusão de outras causa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Diagnóstico diferenci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a452a"/>
                </a:solidFill>
                <a:latin typeface="Calibri"/>
                <a:ea typeface="ＭＳ Ｐゴシック"/>
              </a:rPr>
              <a:t>Alcoolism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a452a"/>
                </a:solidFill>
                <a:latin typeface="Calibri"/>
                <a:ea typeface="ＭＳ Ｐゴシック"/>
              </a:rPr>
              <a:t>Hipotireoid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a452a"/>
                </a:solidFill>
                <a:latin typeface="Calibri"/>
                <a:ea typeface="ＭＳ Ｐゴシック"/>
              </a:rPr>
              <a:t>Desnutri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a452a"/>
                </a:solidFill>
                <a:latin typeface="Calibri"/>
                <a:ea typeface="ＭＳ Ｐゴシック"/>
              </a:rPr>
              <a:t>Drogas neurotóxicas (tratamento HIV, Q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a452a"/>
                </a:solidFill>
                <a:latin typeface="Calibri"/>
                <a:ea typeface="ＭＳ Ｐゴシック"/>
              </a:rPr>
              <a:t>Compressão med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a452a"/>
                </a:solidFill>
                <a:latin typeface="Calibri"/>
                <a:ea typeface="ＭＳ Ｐゴシック"/>
              </a:rPr>
              <a:t>Deficiência de B12 (metform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Insulina e transportadores de glic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m 2" descr="ação insulina.jpg"/>
          <p:cNvPicPr/>
          <p:nvPr/>
        </p:nvPicPr>
        <p:blipFill>
          <a:blip r:embed="rId1"/>
          <a:stretch/>
        </p:blipFill>
        <p:spPr>
          <a:xfrm>
            <a:off x="971640" y="134136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608040" y="170028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olineuropatias simétricas generaliz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52640" y="1413000"/>
            <a:ext cx="409572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uropatias focal e multifo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08040" y="2565000"/>
            <a:ext cx="393048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Sensitiva agu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Sensitiva-motora crô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Autonômica (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53000" y="2603160"/>
            <a:ext cx="393048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Cra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201"/>
              </a:spcBef>
              <a:buClr>
                <a:srgbClr val="4a452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Focal de memb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201"/>
              </a:spcBef>
              <a:buClr>
                <a:srgbClr val="4a452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4a452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a452a"/>
                </a:solidFill>
                <a:latin typeface="Calibri"/>
              </a:rPr>
              <a:t>Tóraco-lomb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201"/>
              </a:spcBef>
              <a:buClr>
                <a:srgbClr val="4a452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4a452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a452a"/>
                </a:solidFill>
                <a:latin typeface="Calibri"/>
              </a:rPr>
              <a:t>Motora proximal (amiotrofi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201"/>
              </a:spcBef>
              <a:buClr>
                <a:srgbClr val="4a452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4a452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a452a"/>
                </a:solidFill>
                <a:latin typeface="Calibri"/>
              </a:rPr>
              <a:t>Coexistência de polineuropatia inflamatória desmielinizante crô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4a452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assific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7750080" y="2743200"/>
            <a:ext cx="1359000" cy="29084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433080"/>
            <a:ext cx="8664480" cy="105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neuropatia Sensitivo-motora crôn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24000" y="1688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Forma mais comum de ND (8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Presente ao diagnóstico em 10% dos portadores de diabetes mellitus tipo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50% dos pacientes são assintomá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Distribuição simét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a45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52a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4a452a"/>
                </a:solidFill>
                <a:latin typeface="Calibri"/>
                <a:ea typeface="ＭＳ Ｐゴシック"/>
              </a:rPr>
              <a:t>Bota e luva</a:t>
            </a:r>
            <a:r>
              <a:rPr b="0" lang="en-US" sz="2000" spc="-1" strike="noStrike">
                <a:solidFill>
                  <a:srgbClr val="4a452a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Normalmente acompanhado de neuropatia autonôm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Exacerbação notu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Diagram 2"/>
          <p:cNvGrpSpPr/>
          <p:nvPr/>
        </p:nvGrpSpPr>
        <p:grpSpPr>
          <a:xfrm>
            <a:off x="2133360" y="2182680"/>
            <a:ext cx="4808160" cy="4164120"/>
            <a:chOff x="2133360" y="2182680"/>
            <a:chExt cx="4808160" cy="4164120"/>
          </a:xfrm>
        </p:grpSpPr>
        <p:sp>
          <p:nvSpPr>
            <p:cNvPr id="333" name="_s1028"/>
            <p:cNvSpPr/>
            <p:nvPr/>
          </p:nvSpPr>
          <p:spPr>
            <a:xfrm>
              <a:off x="3071520" y="2182680"/>
              <a:ext cx="2932200" cy="2932200"/>
            </a:xfrm>
            <a:custGeom>
              <a:avLst/>
              <a:gdLst>
                <a:gd name="textAreaLeft" fmla="*/ 429120 w 2932200"/>
                <a:gd name="textAreaRight" fmla="*/ 2503080 w 2932200"/>
                <a:gd name="textAreaTop" fmla="*/ 429120 h 2932200"/>
                <a:gd name="textAreaBottom" fmla="*/ 250308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_s1029"/>
            <p:cNvSpPr/>
            <p:nvPr/>
          </p:nvSpPr>
          <p:spPr>
            <a:xfrm rot="7200000">
              <a:off x="3472560" y="2877840"/>
              <a:ext cx="2932200" cy="2932200"/>
            </a:xfrm>
            <a:custGeom>
              <a:avLst/>
              <a:gdLst>
                <a:gd name="textAreaLeft" fmla="*/ 429120 w 2932200"/>
                <a:gd name="textAreaRight" fmla="*/ 2503080 w 2932200"/>
                <a:gd name="textAreaTop" fmla="*/ 429120 h 2932200"/>
                <a:gd name="textAreaBottom" fmla="*/ 250308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_s1030"/>
            <p:cNvSpPr/>
            <p:nvPr/>
          </p:nvSpPr>
          <p:spPr>
            <a:xfrm rot="14399400">
              <a:off x="2670120" y="2877480"/>
              <a:ext cx="2932200" cy="2932200"/>
            </a:xfrm>
            <a:custGeom>
              <a:avLst/>
              <a:gdLst>
                <a:gd name="textAreaLeft" fmla="*/ 429120 w 2932200"/>
                <a:gd name="textAreaRight" fmla="*/ 2503080 w 2932200"/>
                <a:gd name="textAreaTop" fmla="*/ 429120 h 2932200"/>
                <a:gd name="textAreaBottom" fmla="*/ 250308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_s1031"/>
            <p:cNvSpPr/>
            <p:nvPr/>
          </p:nvSpPr>
          <p:spPr>
            <a:xfrm>
              <a:off x="5340600" y="2719080"/>
              <a:ext cx="117612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_s1032"/>
            <p:cNvSpPr/>
            <p:nvPr/>
          </p:nvSpPr>
          <p:spPr>
            <a:xfrm>
              <a:off x="3951360" y="5130720"/>
              <a:ext cx="117612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_s1033"/>
            <p:cNvSpPr/>
            <p:nvPr/>
          </p:nvSpPr>
          <p:spPr>
            <a:xfrm>
              <a:off x="2557440" y="2720880"/>
              <a:ext cx="117612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9" name="Picture 12" descr="Imagem 007"/>
          <p:cNvPicPr/>
          <p:nvPr/>
        </p:nvPicPr>
        <p:blipFill>
          <a:blip r:embed="rId1"/>
          <a:stretch/>
        </p:blipFill>
        <p:spPr>
          <a:xfrm>
            <a:off x="1077840" y="1557360"/>
            <a:ext cx="2054160" cy="1541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onofilament"/>
          <p:cNvPicPr/>
          <p:nvPr/>
        </p:nvPicPr>
        <p:blipFill>
          <a:blip r:embed="rId2"/>
          <a:stretch/>
        </p:blipFill>
        <p:spPr>
          <a:xfrm>
            <a:off x="642960" y="3486240"/>
            <a:ext cx="1235160" cy="1663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4" descr="Imagem 034"/>
          <p:cNvPicPr/>
          <p:nvPr/>
        </p:nvPicPr>
        <p:blipFill>
          <a:blip r:embed="rId3"/>
          <a:stretch/>
        </p:blipFill>
        <p:spPr>
          <a:xfrm>
            <a:off x="5651640" y="1986120"/>
            <a:ext cx="2388960" cy="17920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5"/>
          <p:cNvSpPr/>
          <p:nvPr/>
        </p:nvSpPr>
        <p:spPr>
          <a:xfrm>
            <a:off x="2143080" y="3200400"/>
            <a:ext cx="350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ndara"/>
              </a:rPr>
              <a:t>Neuropatia perifé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ndara"/>
              </a:rPr>
              <a:t>Perda sensibilidade protet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ndara"/>
              </a:rPr>
              <a:t>Pé diabético neuropát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AutoShape 18"/>
          <p:cNvSpPr/>
          <p:nvPr/>
        </p:nvSpPr>
        <p:spPr>
          <a:xfrm>
            <a:off x="4424400" y="398160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tângulo 10"/>
          <p:cNvSpPr/>
          <p:nvPr/>
        </p:nvSpPr>
        <p:spPr>
          <a:xfrm>
            <a:off x="1498680" y="333360"/>
            <a:ext cx="67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Avaliação de comprometimento neuropá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11" descr="http://static.photaki.com/Jovens-partes--as-plantas--a-pe-76341.jpg"/>
          <p:cNvPicPr/>
          <p:nvPr/>
        </p:nvPicPr>
        <p:blipFill>
          <a:blip r:embed="rId4"/>
          <a:stretch/>
        </p:blipFill>
        <p:spPr>
          <a:xfrm>
            <a:off x="3851280" y="4221000"/>
            <a:ext cx="1449360" cy="2195640"/>
          </a:xfrm>
          <a:prstGeom prst="rect">
            <a:avLst/>
          </a:prstGeom>
          <a:ln w="0">
            <a:noFill/>
          </a:ln>
        </p:spPr>
      </p:pic>
      <p:sp>
        <p:nvSpPr>
          <p:cNvPr id="346" name="CaixaDeTexto 10"/>
          <p:cNvSpPr/>
          <p:nvPr/>
        </p:nvSpPr>
        <p:spPr>
          <a:xfrm>
            <a:off x="4643280" y="4581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0 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Diagram 2"/>
          <p:cNvGrpSpPr/>
          <p:nvPr/>
        </p:nvGrpSpPr>
        <p:grpSpPr>
          <a:xfrm>
            <a:off x="2133360" y="1824120"/>
            <a:ext cx="4808160" cy="4164120"/>
            <a:chOff x="2133360" y="1824120"/>
            <a:chExt cx="4808160" cy="4164120"/>
          </a:xfrm>
        </p:grpSpPr>
        <p:sp>
          <p:nvSpPr>
            <p:cNvPr id="348" name="_s2052"/>
            <p:cNvSpPr/>
            <p:nvPr/>
          </p:nvSpPr>
          <p:spPr>
            <a:xfrm>
              <a:off x="3071520" y="1824120"/>
              <a:ext cx="2932200" cy="2932200"/>
            </a:xfrm>
            <a:custGeom>
              <a:avLst/>
              <a:gdLst>
                <a:gd name="textAreaLeft" fmla="*/ 429120 w 2932200"/>
                <a:gd name="textAreaRight" fmla="*/ 2503080 w 2932200"/>
                <a:gd name="textAreaTop" fmla="*/ 429120 h 2932200"/>
                <a:gd name="textAreaBottom" fmla="*/ 250308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_s2053"/>
            <p:cNvSpPr/>
            <p:nvPr/>
          </p:nvSpPr>
          <p:spPr>
            <a:xfrm rot="7200000">
              <a:off x="3472560" y="2519280"/>
              <a:ext cx="2932200" cy="2932200"/>
            </a:xfrm>
            <a:custGeom>
              <a:avLst/>
              <a:gdLst>
                <a:gd name="textAreaLeft" fmla="*/ 429120 w 2932200"/>
                <a:gd name="textAreaRight" fmla="*/ 2503080 w 2932200"/>
                <a:gd name="textAreaTop" fmla="*/ 429120 h 2932200"/>
                <a:gd name="textAreaBottom" fmla="*/ 250308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_s2054"/>
            <p:cNvSpPr/>
            <p:nvPr/>
          </p:nvSpPr>
          <p:spPr>
            <a:xfrm rot="14399400">
              <a:off x="2670120" y="2518920"/>
              <a:ext cx="2932200" cy="2932200"/>
            </a:xfrm>
            <a:custGeom>
              <a:avLst/>
              <a:gdLst>
                <a:gd name="textAreaLeft" fmla="*/ 429120 w 2932200"/>
                <a:gd name="textAreaRight" fmla="*/ 2503080 w 2932200"/>
                <a:gd name="textAreaTop" fmla="*/ 429120 h 2932200"/>
                <a:gd name="textAreaBottom" fmla="*/ 250308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_s2055"/>
            <p:cNvSpPr/>
            <p:nvPr/>
          </p:nvSpPr>
          <p:spPr>
            <a:xfrm>
              <a:off x="5340600" y="2360520"/>
              <a:ext cx="1176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_s2056"/>
            <p:cNvSpPr/>
            <p:nvPr/>
          </p:nvSpPr>
          <p:spPr>
            <a:xfrm>
              <a:off x="3951360" y="4772160"/>
              <a:ext cx="1176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_s2057"/>
            <p:cNvSpPr/>
            <p:nvPr/>
          </p:nvSpPr>
          <p:spPr>
            <a:xfrm>
              <a:off x="2557440" y="2361960"/>
              <a:ext cx="1176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4" name="Rectangle 13"/>
          <p:cNvSpPr/>
          <p:nvPr/>
        </p:nvSpPr>
        <p:spPr>
          <a:xfrm>
            <a:off x="324000" y="13460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14" descr="sapostib"/>
          <p:cNvPicPr/>
          <p:nvPr/>
        </p:nvPicPr>
        <p:blipFill>
          <a:blip r:embed="rId1"/>
          <a:stretch/>
        </p:blipFill>
        <p:spPr>
          <a:xfrm>
            <a:off x="3708360" y="4869000"/>
            <a:ext cx="1824120" cy="16509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5" descr="tibial_1"/>
          <p:cNvPicPr/>
          <p:nvPr/>
        </p:nvPicPr>
        <p:blipFill>
          <a:blip r:embed="rId2"/>
          <a:stretch/>
        </p:blipFill>
        <p:spPr>
          <a:xfrm>
            <a:off x="1187280" y="1417680"/>
            <a:ext cx="1857600" cy="1238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6" descr="pedis_1"/>
          <p:cNvPicPr/>
          <p:nvPr/>
        </p:nvPicPr>
        <p:blipFill>
          <a:blip r:embed="rId3"/>
          <a:stretch/>
        </p:blipFill>
        <p:spPr>
          <a:xfrm>
            <a:off x="1908000" y="2641680"/>
            <a:ext cx="1749600" cy="1131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7" descr="DPpalpatetransverse"/>
          <p:cNvPicPr/>
          <p:nvPr/>
        </p:nvPicPr>
        <p:blipFill>
          <a:blip r:embed="rId4"/>
          <a:stretch/>
        </p:blipFill>
        <p:spPr>
          <a:xfrm>
            <a:off x="5435640" y="2065320"/>
            <a:ext cx="1795320" cy="15573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8"/>
          <p:cNvSpPr/>
          <p:nvPr/>
        </p:nvSpPr>
        <p:spPr>
          <a:xfrm>
            <a:off x="3800520" y="2997360"/>
            <a:ext cx="141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ndara"/>
              </a:rPr>
              <a:t>Doenç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ndara"/>
              </a:rPr>
              <a:t>Vascu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ndara"/>
              </a:rPr>
              <a:t>perifé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tângulo 10"/>
          <p:cNvSpPr/>
          <p:nvPr/>
        </p:nvSpPr>
        <p:spPr>
          <a:xfrm>
            <a:off x="862560" y="18900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valiação vascula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lpação dos pulsos podálicos tibial posterior e pedio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1109520" y="217440"/>
            <a:ext cx="67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Neuropatia</a:t>
            </a:r>
            <a:r>
              <a:rPr b="1" lang="pt-BR" sz="40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autonôm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84040" y="2198520"/>
            <a:ext cx="28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udorese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gustató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527040" y="291780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arada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spirató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319040" y="3567240"/>
            <a:ext cx="177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Gastropares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523800" y="320688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Hipotensão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os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1557360" y="408456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iarréia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849240" y="4430880"/>
            <a:ext cx="22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isfunção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ves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1441440" y="4791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Impotê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2017800" y="52941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de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1306440" y="587052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rtropat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5757840" y="214776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flexo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upilar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nor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(não reage à luz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5757840" y="292428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isfunção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sôfa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5757840" y="3662280"/>
            <a:ext cx="338616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flexo cardiovascular anormal,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FC no repou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IAM atípico (sem d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5757840" y="4848120"/>
            <a:ext cx="33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iminuição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sposta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à hipoglicem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5757840" y="588312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lteração do fluxo sangüíneo perifér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17" descr="corpo3"/>
          <p:cNvPicPr/>
          <p:nvPr/>
        </p:nvPicPr>
        <p:blipFill>
          <a:blip r:embed="rId1"/>
          <a:srcRect l="33650" t="0" r="31775" b="0"/>
          <a:stretch/>
        </p:blipFill>
        <p:spPr>
          <a:xfrm>
            <a:off x="3191040" y="1371600"/>
            <a:ext cx="2498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Macroangiopatia no 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741240" y="1312920"/>
            <a:ext cx="655812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ardiopatia isquêm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2854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Ateroesclerose de coronária princip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- Ang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- Infar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- Morte súb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2854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oença coronária de pequenos va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- Insuficiência cardíaca conges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- Arritm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- Morte súb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oença cérebro vasc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suficiência arterial perifé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609480" y="1143000"/>
            <a:ext cx="80838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Quando se preocup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M 1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- após 5 anos do diagnóstico, anualm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- na puber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M 2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- ao diagnóstico, anualm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mbos os tipos, atenção espe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Longa dura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al controla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Hiperten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umantes, alcoólat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resença de uma complica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Gestação - principalmente com a retinopat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785880" y="214200"/>
            <a:ext cx="72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Complicações Crôn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Ações da insul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tabolismo dos carboidrat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rte de glicose, aminoácidos e í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↑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íntese de glicogên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icól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bolismo de lípi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pól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pogên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bolismo das proteín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íntese de D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íntese protê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tabolismo protê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Ações do gluca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tabolismo dos carboidrat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icól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icogenól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oglicogên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bolismo de lípi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togên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pogênese hep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Espaço Reservado para Conteúdo 3"/>
          <p:cNvGrpSpPr/>
          <p:nvPr/>
        </p:nvGrpSpPr>
        <p:grpSpPr>
          <a:xfrm>
            <a:off x="1335240" y="2205000"/>
            <a:ext cx="6473520" cy="3600360"/>
            <a:chOff x="1335240" y="2205000"/>
            <a:chExt cx="6473520" cy="3600360"/>
          </a:xfrm>
        </p:grpSpPr>
        <p:sp>
          <p:nvSpPr>
            <p:cNvPr id="73" name="Forma livre 2"/>
            <p:cNvSpPr/>
            <p:nvPr/>
          </p:nvSpPr>
          <p:spPr>
            <a:xfrm>
              <a:off x="1335240" y="2205000"/>
              <a:ext cx="2138400" cy="1728000"/>
            </a:xfrm>
            <a:custGeom>
              <a:avLst/>
              <a:gdLst>
                <a:gd name="textAreaLeft" fmla="*/ 534600 w 2138400"/>
                <a:gd name="textAreaRight" fmla="*/ 1603800 w 2138400"/>
                <a:gd name="textAreaTop" fmla="*/ 432000 h 1728000"/>
                <a:gd name="textAreaBottom" fmla="*/ 1728360 h 172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21600"/>
                  </a:moveTo>
                  <a:lnTo>
                    <a:pt x="5400" y="10800"/>
                  </a:lnTo>
                  <a:lnTo>
                    <a:pt x="0" y="108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6200" y="10800"/>
                  </a:lnTo>
                  <a:lnTo>
                    <a:pt x="162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787a0"/>
                </a:gs>
                <a:gs pos="100000">
                  <a:srgbClr val="36b1d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orma livre 3"/>
            <p:cNvSpPr/>
            <p:nvPr/>
          </p:nvSpPr>
          <p:spPr>
            <a:xfrm>
              <a:off x="3538080" y="2205000"/>
              <a:ext cx="3629160" cy="172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26600" rIns="426600" tIns="0" bIns="426600" anchor="ctr">
              <a:noAutofit/>
            </a:bodyPr>
            <a:p>
              <a:pPr>
                <a:lnSpc>
                  <a:spcPct val="90000"/>
                </a:lnSpc>
                <a:spcAft>
                  <a:spcPts val="2500"/>
                </a:spcAft>
                <a:tabLst>
                  <a:tab algn="l" pos="0"/>
                  <a:tab algn="l" pos="2666880"/>
                  <a:tab algn="l" pos="5334120"/>
                  <a:tab algn="l" pos="8001000"/>
                  <a:tab algn="l" pos="10667880"/>
                </a:tabLst>
              </a:pPr>
              <a:r>
                <a:rPr b="0" lang="pt-BR" sz="6000" spc="-1" strike="noStrike">
                  <a:solidFill>
                    <a:srgbClr val="000000"/>
                  </a:solidFill>
                  <a:latin typeface="Calibri"/>
                </a:rPr>
                <a:t>insulina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orma livre 4"/>
            <p:cNvSpPr/>
            <p:nvPr/>
          </p:nvSpPr>
          <p:spPr>
            <a:xfrm>
              <a:off x="1976760" y="4077360"/>
              <a:ext cx="2138400" cy="1728000"/>
            </a:xfrm>
            <a:custGeom>
              <a:avLst/>
              <a:gdLst>
                <a:gd name="textAreaLeft" fmla="*/ 534600 w 2138400"/>
                <a:gd name="textAreaRight" fmla="*/ 1603800 w 2138400"/>
                <a:gd name="textAreaTop" fmla="*/ 0 h 1728000"/>
                <a:gd name="textAreaBottom" fmla="*/ 1296000 h 172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5400" y="10800"/>
                  </a:lnTo>
                  <a:lnTo>
                    <a:pt x="0" y="10800"/>
                  </a:lnTo>
                  <a:lnTo>
                    <a:pt x="10800" y="21600"/>
                  </a:lnTo>
                  <a:lnTo>
                    <a:pt x="21600" y="10800"/>
                  </a:lnTo>
                  <a:lnTo>
                    <a:pt x="16200" y="10800"/>
                  </a:lnTo>
                  <a:lnTo>
                    <a:pt x="16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6c1d"/>
                </a:gs>
                <a:gs pos="100000">
                  <a:srgbClr val="ff8f2a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orma livre 5"/>
            <p:cNvSpPr/>
            <p:nvPr/>
          </p:nvSpPr>
          <p:spPr>
            <a:xfrm>
              <a:off x="4179600" y="4077360"/>
              <a:ext cx="3629160" cy="172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26600" rIns="426600" tIns="0" bIns="426600" anchor="ctr">
              <a:noAutofit/>
            </a:bodyPr>
            <a:p>
              <a:pPr>
                <a:lnSpc>
                  <a:spcPct val="90000"/>
                </a:lnSpc>
                <a:spcAft>
                  <a:spcPts val="2500"/>
                </a:spcAft>
                <a:tabLst>
                  <a:tab algn="l" pos="0"/>
                  <a:tab algn="l" pos="2666880"/>
                  <a:tab algn="l" pos="5334120"/>
                  <a:tab algn="l" pos="8001000"/>
                  <a:tab algn="l" pos="10667880"/>
                </a:tabLst>
              </a:pPr>
              <a:r>
                <a:rPr b="0" lang="pt-BR" sz="6000" spc="-1" strike="noStrike">
                  <a:solidFill>
                    <a:srgbClr val="000000"/>
                  </a:solidFill>
                  <a:latin typeface="Calibri"/>
                </a:rPr>
                <a:t>glucagon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5" descr="musculo.JPG"/>
          <p:cNvPicPr/>
          <p:nvPr/>
        </p:nvPicPr>
        <p:blipFill>
          <a:blip r:embed="rId1"/>
          <a:stretch/>
        </p:blipFill>
        <p:spPr>
          <a:xfrm>
            <a:off x="6516720" y="2421000"/>
            <a:ext cx="1776240" cy="1800000"/>
          </a:xfrm>
          <a:prstGeom prst="rect">
            <a:avLst/>
          </a:prstGeom>
          <a:ln w="0">
            <a:noFill/>
          </a:ln>
        </p:spPr>
      </p:pic>
      <p:pic>
        <p:nvPicPr>
          <p:cNvPr id="78" name="Imagem 6" descr="tecido adiposo.gif"/>
          <p:cNvPicPr/>
          <p:nvPr/>
        </p:nvPicPr>
        <p:blipFill>
          <a:blip r:embed="rId2"/>
          <a:srcRect l="0" t="0" r="33619" b="18365"/>
          <a:stretch/>
        </p:blipFill>
        <p:spPr>
          <a:xfrm>
            <a:off x="6443640" y="4697280"/>
            <a:ext cx="154800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Imagem 7" descr="figado.jpg"/>
          <p:cNvPicPr/>
          <p:nvPr/>
        </p:nvPicPr>
        <p:blipFill>
          <a:blip r:embed="rId3"/>
          <a:stretch/>
        </p:blipFill>
        <p:spPr>
          <a:xfrm>
            <a:off x="0" y="4653000"/>
            <a:ext cx="24652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Imagem 10" descr="comida-noturna.jpg"/>
          <p:cNvPicPr/>
          <p:nvPr/>
        </p:nvPicPr>
        <p:blipFill>
          <a:blip r:embed="rId4"/>
          <a:srcRect l="0" t="25399" r="0" b="0"/>
          <a:stretch/>
        </p:blipFill>
        <p:spPr>
          <a:xfrm>
            <a:off x="1539720" y="944640"/>
            <a:ext cx="1303560" cy="971640"/>
          </a:xfrm>
          <a:prstGeom prst="rect">
            <a:avLst/>
          </a:prstGeom>
          <a:ln w="0">
            <a:noFill/>
          </a:ln>
        </p:spPr>
      </p:pic>
      <p:sp>
        <p:nvSpPr>
          <p:cNvPr id="81" name="CaixaDeTexto 26"/>
          <p:cNvSpPr/>
          <p:nvPr/>
        </p:nvSpPr>
        <p:spPr>
          <a:xfrm>
            <a:off x="2144880" y="231300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aixaDeTexto 27"/>
          <p:cNvSpPr/>
          <p:nvPr/>
        </p:nvSpPr>
        <p:spPr>
          <a:xfrm>
            <a:off x="2924280" y="3770280"/>
            <a:ext cx="196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insul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lucag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eta dobrada para cima 28"/>
          <p:cNvSpPr/>
          <p:nvPr/>
        </p:nvSpPr>
        <p:spPr>
          <a:xfrm rot="10799400">
            <a:off x="754920" y="4220640"/>
            <a:ext cx="1800360" cy="360360"/>
          </a:xfrm>
          <a:custGeom>
            <a:avLst/>
            <a:gdLst>
              <a:gd name="textAreaLeft" fmla="*/ 0 w 1800360"/>
              <a:gd name="textAreaRight" fmla="*/ 1755360 w 1800360"/>
              <a:gd name="textAreaTop" fmla="*/ 270360 h 360360"/>
              <a:gd name="textAreaBottom" fmla="*/ 360720 h 360360"/>
            </a:gdLst>
            <a:ahLst/>
            <a:rect l="textAreaLeft" t="textAreaTop" r="textAreaRight" b="textAreaBottom"/>
            <a:pathLst>
              <a:path w="1800197" h="360035">
                <a:moveTo>
                  <a:pt x="0" y="270026"/>
                </a:moveTo>
                <a:lnTo>
                  <a:pt x="1665184" y="270026"/>
                </a:lnTo>
                <a:lnTo>
                  <a:pt x="1665184" y="90009"/>
                </a:lnTo>
                <a:lnTo>
                  <a:pt x="1620179" y="90009"/>
                </a:lnTo>
                <a:lnTo>
                  <a:pt x="1710188" y="0"/>
                </a:lnTo>
                <a:lnTo>
                  <a:pt x="1800197" y="90009"/>
                </a:lnTo>
                <a:lnTo>
                  <a:pt x="1755193" y="90009"/>
                </a:lnTo>
                <a:lnTo>
                  <a:pt x="1755193" y="360035"/>
                </a:lnTo>
                <a:lnTo>
                  <a:pt x="0" y="3600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4640" bIns="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Conector angulado 31"/>
          <p:cNvCxnSpPr/>
          <p:nvPr/>
        </p:nvCxnSpPr>
        <p:spPr>
          <a:xfrm flipV="1">
            <a:off x="4787640" y="3933000"/>
            <a:ext cx="1369080" cy="359640"/>
          </a:xfrm>
          <a:prstGeom prst="bentConnector3">
            <a:avLst>
              <a:gd name="adj1" fmla="val 50000"/>
            </a:avLst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Conector angulado 35"/>
          <p:cNvCxnSpPr/>
          <p:nvPr/>
        </p:nvCxnSpPr>
        <p:spPr>
          <a:xfrm>
            <a:off x="4946760" y="4292640"/>
            <a:ext cx="1080000" cy="721440"/>
          </a:xfrm>
          <a:prstGeom prst="bentConnector3">
            <a:avLst>
              <a:gd name="adj1" fmla="val 49983"/>
            </a:avLst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CaixaDeTexto 36"/>
          <p:cNvSpPr/>
          <p:nvPr/>
        </p:nvSpPr>
        <p:spPr>
          <a:xfrm>
            <a:off x="693360" y="5877000"/>
            <a:ext cx="232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glicogênese hep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aixaDeTexto 37"/>
          <p:cNvSpPr/>
          <p:nvPr/>
        </p:nvSpPr>
        <p:spPr>
          <a:xfrm>
            <a:off x="6309000" y="414972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ptação musc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ixaDeTexto 38"/>
          <p:cNvSpPr/>
          <p:nvPr/>
        </p:nvSpPr>
        <p:spPr>
          <a:xfrm>
            <a:off x="6618240" y="6093000"/>
            <a:ext cx="13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lipogê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lipól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aixaDeTexto 39"/>
          <p:cNvSpPr/>
          <p:nvPr/>
        </p:nvSpPr>
        <p:spPr>
          <a:xfrm>
            <a:off x="3215880" y="5516640"/>
            <a:ext cx="22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GLIC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Homeostase glicêmica: pós-aliment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23" descr=""/>
          <p:cNvPicPr/>
          <p:nvPr/>
        </p:nvPicPr>
        <p:blipFill>
          <a:blip r:embed="rId5"/>
          <a:srcRect l="18339" t="9247" r="15203" b="9933"/>
          <a:stretch/>
        </p:blipFill>
        <p:spPr>
          <a:xfrm>
            <a:off x="3166920" y="1197000"/>
            <a:ext cx="141624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Imagem 29" descr=""/>
          <p:cNvPicPr/>
          <p:nvPr/>
        </p:nvPicPr>
        <p:blipFill>
          <a:blip r:embed="rId6"/>
          <a:srcRect l="31966" t="28959" r="860" b="9838"/>
          <a:stretch/>
        </p:blipFill>
        <p:spPr>
          <a:xfrm>
            <a:off x="3102120" y="2637000"/>
            <a:ext cx="1481040" cy="1079280"/>
          </a:xfrm>
          <a:prstGeom prst="rect">
            <a:avLst/>
          </a:prstGeom>
          <a:ln w="0">
            <a:noFill/>
          </a:ln>
        </p:spPr>
      </p:pic>
      <p:cxnSp>
        <p:nvCxnSpPr>
          <p:cNvPr id="93" name="Conector em curva 33"/>
          <p:cNvCxnSpPr/>
          <p:nvPr/>
        </p:nvCxnSpPr>
        <p:spPr>
          <a:xfrm flipV="1" rot="10800000">
            <a:off x="3101400" y="1915200"/>
            <a:ext cx="65520" cy="1261080"/>
          </a:xfrm>
          <a:prstGeom prst="curvedConnector5">
            <a:avLst>
              <a:gd name="adj1" fmla="val 449171"/>
              <a:gd name="adj2" fmla="val 50000"/>
              <a:gd name="adj3" fmla="val 449171"/>
            </a:avLst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CaixaDeTexto 42"/>
          <p:cNvSpPr/>
          <p:nvPr/>
        </p:nvSpPr>
        <p:spPr>
          <a:xfrm>
            <a:off x="4881600" y="364644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aixaDeTexto 43"/>
          <p:cNvSpPr/>
          <p:nvPr/>
        </p:nvSpPr>
        <p:spPr>
          <a:xfrm>
            <a:off x="1405440" y="350208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1:26:14Z</dcterms:created>
  <dc:creator>marcia.queiroz</dc:creator>
  <dc:description/>
  <dc:language>en-US</dc:language>
  <cp:lastModifiedBy>rubens.silva</cp:lastModifiedBy>
  <dcterms:modified xsi:type="dcterms:W3CDTF">2015-06-24T12:41:22Z</dcterms:modified>
  <cp:revision>61</cp:revision>
  <dc:subject/>
  <dc:title>Módulo Diabetes</dc:title>
</cp:coreProperties>
</file>